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42.png" ContentType="image/png"/>
  <Override PartName="/ppt/media/image20.wmf" ContentType="image/x-wmf"/>
  <Override PartName="/ppt/media/image32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camera.wav" ContentType="audio/x-wav"/>
  <Override PartName="/ppt/media/image17.gif" ContentType="image/gif"/>
  <Override PartName="/ppt/media/image27.jpeg" ContentType="image/jpeg"/>
  <Override PartName="/ppt/media/image16.jpeg" ContentType="image/jpeg"/>
  <Override PartName="/ppt/media/image5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41.gif" ContentType="image/gif"/>
  <Override PartName="/ppt/media/image31.jpeg" ContentType="image/jpeg"/>
  <Override PartName="/ppt/media/image39.png" ContentType="image/png"/>
  <Override PartName="/ppt/media/image9.png" ContentType="image/png"/>
  <Override PartName="/ppt/media/image38.jpeg" ContentType="image/jpeg"/>
  <Override PartName="/ppt/media/image33.jpeg" ContentType="image/jpeg"/>
  <Override PartName="/ppt/media/image25.gif" ContentType="image/gif"/>
  <Override PartName="/ppt/media/image6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43.png" ContentType="image/png"/>
  <Override PartName="/ppt/media/image13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11.jpeg" ContentType="image/jpeg"/>
  <Override PartName="/ppt/media/image4.jpeg" ContentType="image/jpeg"/>
  <Override PartName="/ppt/media/image4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D37C-BAD0-4171-BF5F-09F30E370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E67D-D313-46F3-932D-DEE692F0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AC06-3B74-458A-AAD0-E47B69F27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6DD0-0964-41D3-9D74-0E52B7240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B487-CF7A-4FA4-B19B-AED8BFF8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9C07-4990-43D8-9691-03351D38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55CF-21DE-4C6E-981E-3E2E5101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8B8E-5A4F-4AD4-83B7-82B05350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6DB1-9131-473B-99CC-7C00D0E5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385E-A836-4337-A18A-11984B8C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8D01-4BD7-4C14-88B9-AD35CB45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B362-E77D-47CF-885D-FFA147D7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66F8-80B4-432B-8DF4-C48BBB2220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1.jpeg"/><Relationship Id="rId4" Type="http://schemas.openxmlformats.org/officeDocument/2006/relationships/image" Target="../media/image16.jpeg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gi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D1&#818;%DD&amp;in=32102&amp;cl=2&amp;cm=1&amp;sc=0&amp;lm=-1&amp;pn=9&amp;rn=1&amp;di=1108118924&amp;ln=2000" TargetMode="External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hyperlink" Target="http://image.baidu.com/i?ct=503316480&amp;z=0&amp;tn=baiduimagedetail&amp;word=%C2%ED&amp;in=2750&amp;cl=2&amp;cm=1&amp;sc=0&amp;lm=-1&amp;pn=28&amp;rn=1&amp;di=2427441164&amp;ln=2000" TargetMode="External"/><Relationship Id="rId8" Type="http://schemas.openxmlformats.org/officeDocument/2006/relationships/image" Target="../media/image30.jpeg"/><Relationship Id="rId9" Type="http://schemas.openxmlformats.org/officeDocument/2006/relationships/hyperlink" Target="http://image.baidu.com/i?ct=503316480&amp;z=0&amp;tn=baiduimagedetail&amp;word=&#355;&amp;in=24752&amp;cl=2&amp;cm=1&amp;sc=0&amp;lm=-1&amp;pn=17&amp;rn=1&amp;di=1164235161&amp;ln=2000" TargetMode="External"/><Relationship Id="rId10" Type="http://schemas.openxmlformats.org/officeDocument/2006/relationships/image" Target="../media/image31.jpeg"/><Relationship Id="rId11" Type="http://schemas.openxmlformats.org/officeDocument/2006/relationships/hyperlink" Target="http://image.baidu.com/i?ct=503316480&amp;z=0&amp;tn=baiduimagedetail&amp;word=&#191;%D7%D3&amp;in=16345&amp;cl=2&amp;cm=1&amp;sc=0&amp;lm=-1&amp;pn=5&amp;rn=1&amp;di=1081451764&amp;ln=2000" TargetMode="External"/><Relationship Id="rId12" Type="http://schemas.openxmlformats.org/officeDocument/2006/relationships/image" Target="../media/image32.jpeg"/><Relationship Id="rId13" Type="http://schemas.openxmlformats.org/officeDocument/2006/relationships/hyperlink" Target="http://image.baidu.com/i?ct=503316480&amp;z=0&amp;tn=baiduimagedetail&amp;word=%C2%E2&amp;in=27145&amp;cl=2&amp;cm=1&amp;sc=0&amp;lm=-1&amp;pn=5&amp;rn=1&amp;di=1025691084&amp;ln=2000" TargetMode="External"/><Relationship Id="rId14" Type="http://schemas.openxmlformats.org/officeDocument/2006/relationships/image" Target="../media/image33.jpeg"/><Relationship Id="rId15" Type="http://schemas.openxmlformats.org/officeDocument/2006/relationships/hyperlink" Target="http://image.baidu.com/i?ct=503316480&amp;z=0&amp;tn=baiduimagedetail&amp;word=%B0%D7%C8%CB&#1057;%BA%A2&amp;in=30110&amp;cl=2&amp;cm=1&amp;sc=0&amp;lm=-1&amp;pn=5&amp;rn=1&amp;di=111815580&amp;ln=21" TargetMode="External"/><Relationship Id="rId16" Type="http://schemas.openxmlformats.org/officeDocument/2006/relationships/image" Target="../media/image34.jpeg"/><Relationship Id="rId17" Type="http://schemas.openxmlformats.org/officeDocument/2006/relationships/hyperlink" Target="http://image.baidu.com/i?ct=503316480&amp;z=0&amp;tn=baiduimagedetail&amp;word=%B7%C7%D6&#1978;%DA%C8%CB&amp;in=3123&amp;cl=2&amp;cm=1&amp;sc=0&amp;lm=-1&amp;pn=5&amp;rn=1&amp;di=966115401&amp;ln=696" TargetMode="External"/><Relationship Id="rId18" Type="http://schemas.openxmlformats.org/officeDocument/2006/relationships/image" Target="../media/image35.jpeg"/><Relationship Id="rId19" Type="http://schemas.openxmlformats.org/officeDocument/2006/relationships/image" Target="../media/image36.jpeg"/><Relationship Id="rId20" Type="http://schemas.openxmlformats.org/officeDocument/2006/relationships/image" Target="../media/image37.jpeg"/><Relationship Id="rId21" Type="http://schemas.openxmlformats.org/officeDocument/2006/relationships/image" Target="../media/image38.jpeg"/><Relationship Id="rId2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5.gif"/><Relationship Id="rId4" Type="http://schemas.openxmlformats.org/officeDocument/2006/relationships/slide" Target="slide21.xml"/><Relationship Id="rId5" Type="http://schemas.openxmlformats.org/officeDocument/2006/relationships/image" Target="../media/image41.gif"/><Relationship Id="rId6" Type="http://schemas.openxmlformats.org/officeDocument/2006/relationships/slide" Target="slide49.xml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" Target="slide20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2997360"/>
            <a:ext cx="74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有人说“西欧封建社会末期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“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人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”和“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世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被发现的时代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472428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被发现</a:t>
            </a:r>
            <a:r>
              <a:rPr b="1" lang="zh-CN" sz="4400" spc="-1" strike="noStrike">
                <a:solidFill>
                  <a:srgbClr val="0033cc"/>
                </a:solidFill>
                <a:latin typeface="华文新魏"/>
                <a:ea typeface="华文新魏"/>
              </a:rPr>
              <a:t>--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1692360" y="551664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世界被发现</a:t>
            </a:r>
            <a:r>
              <a:rPr b="1" lang="zh-CN" sz="4400" spc="-1" strike="noStrike">
                <a:solidFill>
                  <a:srgbClr val="0033cc"/>
                </a:solidFill>
                <a:latin typeface="华文新魏"/>
                <a:ea typeface="华文新魏"/>
              </a:rPr>
              <a:t>--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48000" y="472428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文艺复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24360" y="5516640"/>
            <a:ext cx="35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新航路的开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0" y="0"/>
            <a:ext cx="186696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学生活动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33360"/>
            <a:ext cx="9144000" cy="6165720"/>
          </a:xfrm>
          <a:prstGeom prst="ellipse">
            <a:avLst/>
          </a:prstGeom>
          <a:gradFill rotWithShape="0">
            <a:gsLst>
              <a:gs pos="0">
                <a:srgbClr val="2f5e75"/>
              </a:gs>
              <a:gs pos="50000">
                <a:srgbClr val="66ccff"/>
              </a:gs>
              <a:gs pos="100000">
                <a:srgbClr val="2f5e75"/>
              </a:gs>
            </a:gsLst>
            <a:lin ang="108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1089000"/>
            <a:ext cx="2233440" cy="3683160"/>
          </a:xfrm>
          <a:custGeom>
            <a:avLst/>
            <a:gdLst/>
            <a:ahLst/>
            <a:rect l="l" t="t" r="r" b="b"/>
            <a:pathLst>
              <a:path w="1407" h="2320">
                <a:moveTo>
                  <a:pt x="243" y="85"/>
                </a:moveTo>
                <a:cubicBezTo>
                  <a:pt x="187" y="105"/>
                  <a:pt x="208" y="124"/>
                  <a:pt x="151" y="143"/>
                </a:cubicBezTo>
                <a:cubicBezTo>
                  <a:pt x="119" y="190"/>
                  <a:pt x="90" y="187"/>
                  <a:pt x="59" y="235"/>
                </a:cubicBezTo>
                <a:cubicBezTo>
                  <a:pt x="157" y="266"/>
                  <a:pt x="0" y="221"/>
                  <a:pt x="209" y="235"/>
                </a:cubicBezTo>
                <a:cubicBezTo>
                  <a:pt x="233" y="237"/>
                  <a:pt x="258" y="245"/>
                  <a:pt x="278" y="258"/>
                </a:cubicBezTo>
                <a:cubicBezTo>
                  <a:pt x="301" y="273"/>
                  <a:pt x="347" y="304"/>
                  <a:pt x="347" y="304"/>
                </a:cubicBezTo>
                <a:cubicBezTo>
                  <a:pt x="369" y="369"/>
                  <a:pt x="361" y="417"/>
                  <a:pt x="313" y="465"/>
                </a:cubicBezTo>
                <a:cubicBezTo>
                  <a:pt x="283" y="552"/>
                  <a:pt x="269" y="560"/>
                  <a:pt x="301" y="673"/>
                </a:cubicBezTo>
                <a:cubicBezTo>
                  <a:pt x="308" y="700"/>
                  <a:pt x="347" y="742"/>
                  <a:pt x="347" y="742"/>
                </a:cubicBezTo>
                <a:cubicBezTo>
                  <a:pt x="336" y="750"/>
                  <a:pt x="322" y="754"/>
                  <a:pt x="313" y="765"/>
                </a:cubicBezTo>
                <a:cubicBezTo>
                  <a:pt x="284" y="801"/>
                  <a:pt x="324" y="834"/>
                  <a:pt x="336" y="869"/>
                </a:cubicBezTo>
                <a:cubicBezTo>
                  <a:pt x="351" y="821"/>
                  <a:pt x="332" y="813"/>
                  <a:pt x="347" y="765"/>
                </a:cubicBezTo>
                <a:cubicBezTo>
                  <a:pt x="417" y="811"/>
                  <a:pt x="372" y="769"/>
                  <a:pt x="393" y="903"/>
                </a:cubicBezTo>
                <a:cubicBezTo>
                  <a:pt x="398" y="934"/>
                  <a:pt x="411" y="947"/>
                  <a:pt x="428" y="972"/>
                </a:cubicBezTo>
                <a:cubicBezTo>
                  <a:pt x="432" y="984"/>
                  <a:pt x="430" y="998"/>
                  <a:pt x="439" y="1007"/>
                </a:cubicBezTo>
                <a:cubicBezTo>
                  <a:pt x="458" y="1027"/>
                  <a:pt x="508" y="1053"/>
                  <a:pt x="508" y="1053"/>
                </a:cubicBezTo>
                <a:cubicBezTo>
                  <a:pt x="527" y="1049"/>
                  <a:pt x="547" y="1036"/>
                  <a:pt x="566" y="1041"/>
                </a:cubicBezTo>
                <a:cubicBezTo>
                  <a:pt x="582" y="1045"/>
                  <a:pt x="588" y="1066"/>
                  <a:pt x="601" y="1076"/>
                </a:cubicBezTo>
                <a:cubicBezTo>
                  <a:pt x="615" y="1086"/>
                  <a:pt x="632" y="1091"/>
                  <a:pt x="647" y="1099"/>
                </a:cubicBezTo>
                <a:cubicBezTo>
                  <a:pt x="670" y="1133"/>
                  <a:pt x="691" y="1152"/>
                  <a:pt x="704" y="1191"/>
                </a:cubicBezTo>
                <a:cubicBezTo>
                  <a:pt x="742" y="1185"/>
                  <a:pt x="786" y="1157"/>
                  <a:pt x="796" y="1214"/>
                </a:cubicBezTo>
                <a:cubicBezTo>
                  <a:pt x="800" y="1239"/>
                  <a:pt x="770" y="1265"/>
                  <a:pt x="762" y="1283"/>
                </a:cubicBezTo>
                <a:cubicBezTo>
                  <a:pt x="752" y="1305"/>
                  <a:pt x="739" y="1352"/>
                  <a:pt x="739" y="1352"/>
                </a:cubicBezTo>
                <a:cubicBezTo>
                  <a:pt x="740" y="1363"/>
                  <a:pt x="753" y="1505"/>
                  <a:pt x="773" y="1525"/>
                </a:cubicBezTo>
                <a:cubicBezTo>
                  <a:pt x="793" y="1545"/>
                  <a:pt x="842" y="1571"/>
                  <a:pt x="842" y="1571"/>
                </a:cubicBezTo>
                <a:cubicBezTo>
                  <a:pt x="878" y="1626"/>
                  <a:pt x="860" y="1593"/>
                  <a:pt x="889" y="1675"/>
                </a:cubicBezTo>
                <a:cubicBezTo>
                  <a:pt x="904" y="1718"/>
                  <a:pt x="958" y="1736"/>
                  <a:pt x="992" y="1767"/>
                </a:cubicBezTo>
                <a:cubicBezTo>
                  <a:pt x="970" y="1857"/>
                  <a:pt x="996" y="1773"/>
                  <a:pt x="958" y="1848"/>
                </a:cubicBezTo>
                <a:cubicBezTo>
                  <a:pt x="942" y="1879"/>
                  <a:pt x="935" y="1918"/>
                  <a:pt x="923" y="1951"/>
                </a:cubicBezTo>
                <a:cubicBezTo>
                  <a:pt x="949" y="2056"/>
                  <a:pt x="967" y="2150"/>
                  <a:pt x="1027" y="2239"/>
                </a:cubicBezTo>
                <a:cubicBezTo>
                  <a:pt x="1031" y="2254"/>
                  <a:pt x="1030" y="2271"/>
                  <a:pt x="1038" y="2285"/>
                </a:cubicBezTo>
                <a:cubicBezTo>
                  <a:pt x="1046" y="2299"/>
                  <a:pt x="1057" y="2320"/>
                  <a:pt x="1073" y="2320"/>
                </a:cubicBezTo>
                <a:cubicBezTo>
                  <a:pt x="1085" y="2320"/>
                  <a:pt x="1065" y="2297"/>
                  <a:pt x="1061" y="2285"/>
                </a:cubicBezTo>
                <a:cubicBezTo>
                  <a:pt x="1073" y="2277"/>
                  <a:pt x="1087" y="2273"/>
                  <a:pt x="1096" y="2262"/>
                </a:cubicBezTo>
                <a:cubicBezTo>
                  <a:pt x="1121" y="2231"/>
                  <a:pt x="1092" y="2179"/>
                  <a:pt x="1084" y="2147"/>
                </a:cubicBezTo>
                <a:cubicBezTo>
                  <a:pt x="1094" y="2101"/>
                  <a:pt x="1098" y="2058"/>
                  <a:pt x="1130" y="2021"/>
                </a:cubicBezTo>
                <a:cubicBezTo>
                  <a:pt x="1144" y="2004"/>
                  <a:pt x="1177" y="1974"/>
                  <a:pt x="1177" y="1974"/>
                </a:cubicBezTo>
                <a:cubicBezTo>
                  <a:pt x="1197" y="1913"/>
                  <a:pt x="1210" y="1855"/>
                  <a:pt x="1246" y="1802"/>
                </a:cubicBezTo>
                <a:cubicBezTo>
                  <a:pt x="1270" y="1724"/>
                  <a:pt x="1236" y="1807"/>
                  <a:pt x="1292" y="1744"/>
                </a:cubicBezTo>
                <a:cubicBezTo>
                  <a:pt x="1310" y="1723"/>
                  <a:pt x="1338" y="1675"/>
                  <a:pt x="1338" y="1675"/>
                </a:cubicBezTo>
                <a:cubicBezTo>
                  <a:pt x="1360" y="1606"/>
                  <a:pt x="1383" y="1537"/>
                  <a:pt x="1407" y="1468"/>
                </a:cubicBezTo>
                <a:cubicBezTo>
                  <a:pt x="1386" y="1406"/>
                  <a:pt x="1356" y="1409"/>
                  <a:pt x="1292" y="1398"/>
                </a:cubicBezTo>
                <a:cubicBezTo>
                  <a:pt x="1255" y="1362"/>
                  <a:pt x="1219" y="1358"/>
                  <a:pt x="1188" y="1318"/>
                </a:cubicBezTo>
                <a:cubicBezTo>
                  <a:pt x="1124" y="1237"/>
                  <a:pt x="1159" y="1248"/>
                  <a:pt x="1061" y="1214"/>
                </a:cubicBezTo>
                <a:cubicBezTo>
                  <a:pt x="1019" y="1172"/>
                  <a:pt x="1001" y="1174"/>
                  <a:pt x="946" y="1157"/>
                </a:cubicBezTo>
                <a:cubicBezTo>
                  <a:pt x="923" y="1150"/>
                  <a:pt x="877" y="1133"/>
                  <a:pt x="877" y="1133"/>
                </a:cubicBezTo>
                <a:cubicBezTo>
                  <a:pt x="854" y="1137"/>
                  <a:pt x="828" y="1133"/>
                  <a:pt x="808" y="1145"/>
                </a:cubicBezTo>
                <a:cubicBezTo>
                  <a:pt x="797" y="1151"/>
                  <a:pt x="808" y="1177"/>
                  <a:pt x="796" y="1180"/>
                </a:cubicBezTo>
                <a:cubicBezTo>
                  <a:pt x="783" y="1183"/>
                  <a:pt x="774" y="1163"/>
                  <a:pt x="762" y="1157"/>
                </a:cubicBezTo>
                <a:cubicBezTo>
                  <a:pt x="751" y="1151"/>
                  <a:pt x="739" y="1149"/>
                  <a:pt x="727" y="1145"/>
                </a:cubicBezTo>
                <a:cubicBezTo>
                  <a:pt x="718" y="1115"/>
                  <a:pt x="726" y="1075"/>
                  <a:pt x="704" y="1053"/>
                </a:cubicBezTo>
                <a:cubicBezTo>
                  <a:pt x="690" y="1039"/>
                  <a:pt x="666" y="1045"/>
                  <a:pt x="647" y="1041"/>
                </a:cubicBezTo>
                <a:cubicBezTo>
                  <a:pt x="651" y="1022"/>
                  <a:pt x="658" y="1003"/>
                  <a:pt x="658" y="984"/>
                </a:cubicBezTo>
                <a:cubicBezTo>
                  <a:pt x="658" y="972"/>
                  <a:pt x="659" y="951"/>
                  <a:pt x="647" y="949"/>
                </a:cubicBezTo>
                <a:cubicBezTo>
                  <a:pt x="623" y="945"/>
                  <a:pt x="577" y="972"/>
                  <a:pt x="577" y="972"/>
                </a:cubicBezTo>
                <a:cubicBezTo>
                  <a:pt x="562" y="968"/>
                  <a:pt x="543" y="971"/>
                  <a:pt x="531" y="961"/>
                </a:cubicBezTo>
                <a:cubicBezTo>
                  <a:pt x="512" y="946"/>
                  <a:pt x="522" y="893"/>
                  <a:pt x="531" y="880"/>
                </a:cubicBezTo>
                <a:cubicBezTo>
                  <a:pt x="550" y="853"/>
                  <a:pt x="583" y="838"/>
                  <a:pt x="601" y="811"/>
                </a:cubicBezTo>
                <a:cubicBezTo>
                  <a:pt x="609" y="799"/>
                  <a:pt x="616" y="788"/>
                  <a:pt x="624" y="776"/>
                </a:cubicBezTo>
                <a:cubicBezTo>
                  <a:pt x="643" y="780"/>
                  <a:pt x="665" y="778"/>
                  <a:pt x="681" y="788"/>
                </a:cubicBezTo>
                <a:cubicBezTo>
                  <a:pt x="708" y="806"/>
                  <a:pt x="750" y="857"/>
                  <a:pt x="750" y="857"/>
                </a:cubicBezTo>
                <a:cubicBezTo>
                  <a:pt x="754" y="845"/>
                  <a:pt x="762" y="834"/>
                  <a:pt x="762" y="822"/>
                </a:cubicBezTo>
                <a:cubicBezTo>
                  <a:pt x="762" y="814"/>
                  <a:pt x="733" y="753"/>
                  <a:pt x="762" y="742"/>
                </a:cubicBezTo>
                <a:cubicBezTo>
                  <a:pt x="794" y="729"/>
                  <a:pt x="831" y="734"/>
                  <a:pt x="865" y="730"/>
                </a:cubicBezTo>
                <a:cubicBezTo>
                  <a:pt x="908" y="689"/>
                  <a:pt x="916" y="625"/>
                  <a:pt x="935" y="569"/>
                </a:cubicBezTo>
                <a:cubicBezTo>
                  <a:pt x="939" y="558"/>
                  <a:pt x="958" y="561"/>
                  <a:pt x="969" y="557"/>
                </a:cubicBezTo>
                <a:cubicBezTo>
                  <a:pt x="981" y="546"/>
                  <a:pt x="989" y="528"/>
                  <a:pt x="1004" y="523"/>
                </a:cubicBezTo>
                <a:cubicBezTo>
                  <a:pt x="1015" y="519"/>
                  <a:pt x="1026" y="534"/>
                  <a:pt x="1038" y="534"/>
                </a:cubicBezTo>
                <a:cubicBezTo>
                  <a:pt x="1061" y="534"/>
                  <a:pt x="1084" y="527"/>
                  <a:pt x="1107" y="523"/>
                </a:cubicBezTo>
                <a:cubicBezTo>
                  <a:pt x="1115" y="511"/>
                  <a:pt x="1124" y="501"/>
                  <a:pt x="1130" y="488"/>
                </a:cubicBezTo>
                <a:cubicBezTo>
                  <a:pt x="1136" y="473"/>
                  <a:pt x="1128" y="450"/>
                  <a:pt x="1142" y="442"/>
                </a:cubicBezTo>
                <a:cubicBezTo>
                  <a:pt x="1156" y="434"/>
                  <a:pt x="1173" y="450"/>
                  <a:pt x="1188" y="454"/>
                </a:cubicBezTo>
                <a:cubicBezTo>
                  <a:pt x="1191" y="456"/>
                  <a:pt x="1259" y="517"/>
                  <a:pt x="1246" y="442"/>
                </a:cubicBezTo>
                <a:cubicBezTo>
                  <a:pt x="1243" y="426"/>
                  <a:pt x="1223" y="419"/>
                  <a:pt x="1211" y="408"/>
                </a:cubicBezTo>
                <a:cubicBezTo>
                  <a:pt x="1226" y="350"/>
                  <a:pt x="1243" y="313"/>
                  <a:pt x="1200" y="246"/>
                </a:cubicBezTo>
                <a:cubicBezTo>
                  <a:pt x="1189" y="229"/>
                  <a:pt x="1161" y="239"/>
                  <a:pt x="1142" y="235"/>
                </a:cubicBezTo>
                <a:cubicBezTo>
                  <a:pt x="1072" y="257"/>
                  <a:pt x="1134" y="250"/>
                  <a:pt x="1096" y="212"/>
                </a:cubicBezTo>
                <a:cubicBezTo>
                  <a:pt x="1087" y="203"/>
                  <a:pt x="1073" y="204"/>
                  <a:pt x="1061" y="200"/>
                </a:cubicBezTo>
                <a:cubicBezTo>
                  <a:pt x="1050" y="204"/>
                  <a:pt x="1030" y="200"/>
                  <a:pt x="1027" y="212"/>
                </a:cubicBezTo>
                <a:cubicBezTo>
                  <a:pt x="1016" y="251"/>
                  <a:pt x="1060" y="289"/>
                  <a:pt x="1027" y="327"/>
                </a:cubicBezTo>
                <a:cubicBezTo>
                  <a:pt x="1009" y="348"/>
                  <a:pt x="958" y="373"/>
                  <a:pt x="958" y="373"/>
                </a:cubicBezTo>
                <a:cubicBezTo>
                  <a:pt x="856" y="306"/>
                  <a:pt x="976" y="395"/>
                  <a:pt x="912" y="316"/>
                </a:cubicBezTo>
                <a:cubicBezTo>
                  <a:pt x="896" y="296"/>
                  <a:pt x="864" y="289"/>
                  <a:pt x="842" y="281"/>
                </a:cubicBezTo>
                <a:cubicBezTo>
                  <a:pt x="838" y="269"/>
                  <a:pt x="826" y="257"/>
                  <a:pt x="831" y="246"/>
                </a:cubicBezTo>
                <a:cubicBezTo>
                  <a:pt x="840" y="224"/>
                  <a:pt x="934" y="200"/>
                  <a:pt x="935" y="200"/>
                </a:cubicBezTo>
                <a:cubicBezTo>
                  <a:pt x="946" y="196"/>
                  <a:pt x="958" y="193"/>
                  <a:pt x="969" y="189"/>
                </a:cubicBezTo>
                <a:cubicBezTo>
                  <a:pt x="981" y="185"/>
                  <a:pt x="1004" y="177"/>
                  <a:pt x="1004" y="177"/>
                </a:cubicBezTo>
                <a:cubicBezTo>
                  <a:pt x="1010" y="168"/>
                  <a:pt x="1044" y="124"/>
                  <a:pt x="1038" y="108"/>
                </a:cubicBezTo>
                <a:cubicBezTo>
                  <a:pt x="1033" y="95"/>
                  <a:pt x="1015" y="93"/>
                  <a:pt x="1004" y="85"/>
                </a:cubicBezTo>
                <a:cubicBezTo>
                  <a:pt x="909" y="117"/>
                  <a:pt x="959" y="104"/>
                  <a:pt x="854" y="120"/>
                </a:cubicBezTo>
                <a:cubicBezTo>
                  <a:pt x="842" y="124"/>
                  <a:pt x="830" y="136"/>
                  <a:pt x="819" y="131"/>
                </a:cubicBezTo>
                <a:cubicBezTo>
                  <a:pt x="808" y="126"/>
                  <a:pt x="801" y="106"/>
                  <a:pt x="808" y="97"/>
                </a:cubicBezTo>
                <a:cubicBezTo>
                  <a:pt x="818" y="84"/>
                  <a:pt x="839" y="89"/>
                  <a:pt x="854" y="85"/>
                </a:cubicBezTo>
                <a:cubicBezTo>
                  <a:pt x="824" y="0"/>
                  <a:pt x="765" y="54"/>
                  <a:pt x="693" y="5"/>
                </a:cubicBezTo>
                <a:cubicBezTo>
                  <a:pt x="689" y="16"/>
                  <a:pt x="677" y="28"/>
                  <a:pt x="681" y="39"/>
                </a:cubicBezTo>
                <a:cubicBezTo>
                  <a:pt x="687" y="55"/>
                  <a:pt x="736" y="69"/>
                  <a:pt x="750" y="74"/>
                </a:cubicBezTo>
                <a:cubicBezTo>
                  <a:pt x="698" y="109"/>
                  <a:pt x="691" y="92"/>
                  <a:pt x="635" y="74"/>
                </a:cubicBezTo>
                <a:cubicBezTo>
                  <a:pt x="500" y="92"/>
                  <a:pt x="367" y="69"/>
                  <a:pt x="232" y="85"/>
                </a:cubicBezTo>
                <a:cubicBezTo>
                  <a:pt x="217" y="108"/>
                  <a:pt x="201" y="131"/>
                  <a:pt x="186" y="154"/>
                </a:cubicBezTo>
                <a:cubicBezTo>
                  <a:pt x="179" y="164"/>
                  <a:pt x="162" y="160"/>
                  <a:pt x="151" y="166"/>
                </a:cubicBezTo>
                <a:cubicBezTo>
                  <a:pt x="142" y="172"/>
                  <a:pt x="136" y="181"/>
                  <a:pt x="128" y="189"/>
                </a:cubicBezTo>
              </a:path>
            </a:pathLst>
          </a:custGeom>
          <a:noFill/>
          <a:ln w="57240">
            <a:solidFill>
              <a:srgbClr val="ffcc00"/>
            </a:solidFill>
            <a:round/>
          </a:ln>
          <a:effectLst>
            <a:outerShdw dist="36147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92480" y="825480"/>
            <a:ext cx="1050840" cy="557280"/>
          </a:xfrm>
          <a:custGeom>
            <a:avLst/>
            <a:gdLst/>
            <a:ahLst/>
            <a:rect l="l" t="t" r="r" b="b"/>
            <a:pathLst>
              <a:path w="662" h="351">
                <a:moveTo>
                  <a:pt x="63" y="49"/>
                </a:moveTo>
                <a:cubicBezTo>
                  <a:pt x="99" y="61"/>
                  <a:pt x="107" y="58"/>
                  <a:pt x="132" y="95"/>
                </a:cubicBezTo>
                <a:cubicBezTo>
                  <a:pt x="139" y="105"/>
                  <a:pt x="133" y="123"/>
                  <a:pt x="143" y="130"/>
                </a:cubicBezTo>
                <a:cubicBezTo>
                  <a:pt x="159" y="141"/>
                  <a:pt x="182" y="137"/>
                  <a:pt x="201" y="141"/>
                </a:cubicBezTo>
                <a:cubicBezTo>
                  <a:pt x="231" y="186"/>
                  <a:pt x="240" y="202"/>
                  <a:pt x="224" y="256"/>
                </a:cubicBezTo>
                <a:cubicBezTo>
                  <a:pt x="217" y="279"/>
                  <a:pt x="201" y="325"/>
                  <a:pt x="201" y="325"/>
                </a:cubicBezTo>
                <a:cubicBezTo>
                  <a:pt x="212" y="333"/>
                  <a:pt x="222" y="351"/>
                  <a:pt x="235" y="348"/>
                </a:cubicBezTo>
                <a:cubicBezTo>
                  <a:pt x="262" y="342"/>
                  <a:pt x="305" y="302"/>
                  <a:pt x="305" y="302"/>
                </a:cubicBezTo>
                <a:cubicBezTo>
                  <a:pt x="335" y="258"/>
                  <a:pt x="347" y="251"/>
                  <a:pt x="397" y="268"/>
                </a:cubicBezTo>
                <a:cubicBezTo>
                  <a:pt x="470" y="249"/>
                  <a:pt x="434" y="269"/>
                  <a:pt x="489" y="187"/>
                </a:cubicBezTo>
                <a:cubicBezTo>
                  <a:pt x="499" y="173"/>
                  <a:pt x="521" y="174"/>
                  <a:pt x="535" y="164"/>
                </a:cubicBezTo>
                <a:cubicBezTo>
                  <a:pt x="548" y="155"/>
                  <a:pt x="558" y="141"/>
                  <a:pt x="569" y="130"/>
                </a:cubicBezTo>
                <a:cubicBezTo>
                  <a:pt x="587" y="76"/>
                  <a:pt x="607" y="62"/>
                  <a:pt x="662" y="49"/>
                </a:cubicBezTo>
                <a:cubicBezTo>
                  <a:pt x="565" y="13"/>
                  <a:pt x="532" y="0"/>
                  <a:pt x="431" y="14"/>
                </a:cubicBezTo>
                <a:cubicBezTo>
                  <a:pt x="323" y="68"/>
                  <a:pt x="426" y="26"/>
                  <a:pt x="201" y="26"/>
                </a:cubicBezTo>
                <a:cubicBezTo>
                  <a:pt x="155" y="26"/>
                  <a:pt x="109" y="33"/>
                  <a:pt x="63" y="37"/>
                </a:cubicBezTo>
                <a:cubicBezTo>
                  <a:pt x="3" y="67"/>
                  <a:pt x="0" y="64"/>
                  <a:pt x="63" y="49"/>
                </a:cubicBezTo>
                <a:close/>
              </a:path>
            </a:pathLst>
          </a:custGeom>
          <a:solidFill>
            <a:srgbClr val="ffcc00"/>
          </a:solidFill>
          <a:ln w="57240">
            <a:solidFill>
              <a:srgbClr val="ffcc00"/>
            </a:solidFill>
            <a:round/>
          </a:ln>
          <a:effectLst>
            <a:outerShdw dist="36147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92920" y="3503520"/>
            <a:ext cx="860400" cy="827280"/>
          </a:xfrm>
          <a:custGeom>
            <a:avLst/>
            <a:gdLst/>
            <a:ahLst/>
            <a:rect l="l" t="t" r="r" b="b"/>
            <a:pathLst>
              <a:path w="542" h="521">
                <a:moveTo>
                  <a:pt x="278" y="21"/>
                </a:moveTo>
                <a:cubicBezTo>
                  <a:pt x="262" y="67"/>
                  <a:pt x="241" y="74"/>
                  <a:pt x="197" y="90"/>
                </a:cubicBezTo>
                <a:cubicBezTo>
                  <a:pt x="181" y="86"/>
                  <a:pt x="133" y="64"/>
                  <a:pt x="116" y="90"/>
                </a:cubicBezTo>
                <a:cubicBezTo>
                  <a:pt x="105" y="106"/>
                  <a:pt x="112" y="129"/>
                  <a:pt x="105" y="147"/>
                </a:cubicBezTo>
                <a:cubicBezTo>
                  <a:pt x="94" y="173"/>
                  <a:pt x="70" y="175"/>
                  <a:pt x="47" y="182"/>
                </a:cubicBezTo>
                <a:cubicBezTo>
                  <a:pt x="36" y="190"/>
                  <a:pt x="16" y="192"/>
                  <a:pt x="13" y="205"/>
                </a:cubicBezTo>
                <a:cubicBezTo>
                  <a:pt x="0" y="262"/>
                  <a:pt x="22" y="282"/>
                  <a:pt x="47" y="320"/>
                </a:cubicBezTo>
                <a:cubicBezTo>
                  <a:pt x="43" y="347"/>
                  <a:pt x="18" y="381"/>
                  <a:pt x="36" y="401"/>
                </a:cubicBezTo>
                <a:cubicBezTo>
                  <a:pt x="73" y="443"/>
                  <a:pt x="217" y="416"/>
                  <a:pt x="254" y="412"/>
                </a:cubicBezTo>
                <a:cubicBezTo>
                  <a:pt x="262" y="404"/>
                  <a:pt x="267" y="386"/>
                  <a:pt x="278" y="389"/>
                </a:cubicBezTo>
                <a:cubicBezTo>
                  <a:pt x="292" y="392"/>
                  <a:pt x="292" y="413"/>
                  <a:pt x="301" y="424"/>
                </a:cubicBezTo>
                <a:cubicBezTo>
                  <a:pt x="311" y="437"/>
                  <a:pt x="324" y="447"/>
                  <a:pt x="335" y="459"/>
                </a:cubicBezTo>
                <a:cubicBezTo>
                  <a:pt x="357" y="521"/>
                  <a:pt x="365" y="520"/>
                  <a:pt x="427" y="505"/>
                </a:cubicBezTo>
                <a:cubicBezTo>
                  <a:pt x="474" y="434"/>
                  <a:pt x="517" y="377"/>
                  <a:pt x="542" y="297"/>
                </a:cubicBezTo>
                <a:cubicBezTo>
                  <a:pt x="538" y="274"/>
                  <a:pt x="541" y="249"/>
                  <a:pt x="531" y="228"/>
                </a:cubicBezTo>
                <a:cubicBezTo>
                  <a:pt x="525" y="216"/>
                  <a:pt x="503" y="217"/>
                  <a:pt x="496" y="205"/>
                </a:cubicBezTo>
                <a:cubicBezTo>
                  <a:pt x="483" y="184"/>
                  <a:pt x="473" y="136"/>
                  <a:pt x="473" y="136"/>
                </a:cubicBezTo>
                <a:cubicBezTo>
                  <a:pt x="480" y="109"/>
                  <a:pt x="504" y="44"/>
                  <a:pt x="473" y="21"/>
                </a:cubicBezTo>
                <a:cubicBezTo>
                  <a:pt x="460" y="11"/>
                  <a:pt x="450" y="44"/>
                  <a:pt x="439" y="55"/>
                </a:cubicBezTo>
                <a:cubicBezTo>
                  <a:pt x="436" y="63"/>
                  <a:pt x="419" y="124"/>
                  <a:pt x="404" y="124"/>
                </a:cubicBezTo>
                <a:cubicBezTo>
                  <a:pt x="385" y="124"/>
                  <a:pt x="373" y="101"/>
                  <a:pt x="358" y="90"/>
                </a:cubicBezTo>
                <a:cubicBezTo>
                  <a:pt x="354" y="78"/>
                  <a:pt x="350" y="67"/>
                  <a:pt x="347" y="55"/>
                </a:cubicBezTo>
                <a:cubicBezTo>
                  <a:pt x="343" y="40"/>
                  <a:pt x="349" y="16"/>
                  <a:pt x="335" y="9"/>
                </a:cubicBezTo>
                <a:cubicBezTo>
                  <a:pt x="318" y="0"/>
                  <a:pt x="297" y="17"/>
                  <a:pt x="278" y="21"/>
                </a:cubicBezTo>
                <a:cubicBezTo>
                  <a:pt x="262" y="67"/>
                  <a:pt x="241" y="74"/>
                  <a:pt x="197" y="90"/>
                </a:cubicBezTo>
                <a:cubicBezTo>
                  <a:pt x="159" y="127"/>
                  <a:pt x="178" y="124"/>
                  <a:pt x="151" y="124"/>
                </a:cubicBezTo>
              </a:path>
            </a:pathLst>
          </a:custGeom>
          <a:solidFill>
            <a:srgbClr val="ffcc00"/>
          </a:solidFill>
          <a:ln w="57240">
            <a:solidFill>
              <a:srgbClr val="ffcc00"/>
            </a:solidFill>
            <a:round/>
          </a:ln>
          <a:effectLst>
            <a:outerShdw dist="36147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48120" y="1012680"/>
            <a:ext cx="3611520" cy="3159360"/>
          </a:xfrm>
          <a:custGeom>
            <a:avLst/>
            <a:gdLst/>
            <a:ahLst/>
            <a:rect l="l" t="t" r="r" b="b"/>
            <a:pathLst>
              <a:path w="2275" h="1990">
                <a:moveTo>
                  <a:pt x="357" y="262"/>
                </a:moveTo>
                <a:cubicBezTo>
                  <a:pt x="353" y="274"/>
                  <a:pt x="340" y="286"/>
                  <a:pt x="345" y="297"/>
                </a:cubicBezTo>
                <a:cubicBezTo>
                  <a:pt x="358" y="330"/>
                  <a:pt x="449" y="328"/>
                  <a:pt x="484" y="332"/>
                </a:cubicBezTo>
                <a:cubicBezTo>
                  <a:pt x="492" y="320"/>
                  <a:pt x="494" y="302"/>
                  <a:pt x="507" y="297"/>
                </a:cubicBezTo>
                <a:cubicBezTo>
                  <a:pt x="543" y="282"/>
                  <a:pt x="548" y="328"/>
                  <a:pt x="553" y="343"/>
                </a:cubicBezTo>
                <a:cubicBezTo>
                  <a:pt x="487" y="429"/>
                  <a:pt x="537" y="386"/>
                  <a:pt x="368" y="412"/>
                </a:cubicBezTo>
                <a:cubicBezTo>
                  <a:pt x="341" y="416"/>
                  <a:pt x="288" y="424"/>
                  <a:pt x="288" y="424"/>
                </a:cubicBezTo>
                <a:cubicBezTo>
                  <a:pt x="284" y="447"/>
                  <a:pt x="288" y="473"/>
                  <a:pt x="276" y="493"/>
                </a:cubicBezTo>
                <a:cubicBezTo>
                  <a:pt x="270" y="503"/>
                  <a:pt x="247" y="493"/>
                  <a:pt x="242" y="504"/>
                </a:cubicBezTo>
                <a:cubicBezTo>
                  <a:pt x="189" y="609"/>
                  <a:pt x="273" y="571"/>
                  <a:pt x="196" y="596"/>
                </a:cubicBezTo>
                <a:cubicBezTo>
                  <a:pt x="188" y="604"/>
                  <a:pt x="182" y="614"/>
                  <a:pt x="173" y="620"/>
                </a:cubicBezTo>
                <a:cubicBezTo>
                  <a:pt x="163" y="626"/>
                  <a:pt x="141" y="619"/>
                  <a:pt x="138" y="631"/>
                </a:cubicBezTo>
                <a:cubicBezTo>
                  <a:pt x="129" y="664"/>
                  <a:pt x="181" y="672"/>
                  <a:pt x="196" y="677"/>
                </a:cubicBezTo>
                <a:cubicBezTo>
                  <a:pt x="285" y="648"/>
                  <a:pt x="181" y="692"/>
                  <a:pt x="242" y="631"/>
                </a:cubicBezTo>
                <a:cubicBezTo>
                  <a:pt x="250" y="623"/>
                  <a:pt x="265" y="624"/>
                  <a:pt x="276" y="620"/>
                </a:cubicBezTo>
                <a:cubicBezTo>
                  <a:pt x="358" y="564"/>
                  <a:pt x="318" y="579"/>
                  <a:pt x="392" y="562"/>
                </a:cubicBezTo>
                <a:cubicBezTo>
                  <a:pt x="414" y="594"/>
                  <a:pt x="439" y="622"/>
                  <a:pt x="461" y="654"/>
                </a:cubicBezTo>
                <a:cubicBezTo>
                  <a:pt x="480" y="596"/>
                  <a:pt x="477" y="584"/>
                  <a:pt x="426" y="550"/>
                </a:cubicBezTo>
                <a:cubicBezTo>
                  <a:pt x="438" y="542"/>
                  <a:pt x="447" y="524"/>
                  <a:pt x="461" y="527"/>
                </a:cubicBezTo>
                <a:cubicBezTo>
                  <a:pt x="481" y="531"/>
                  <a:pt x="488" y="584"/>
                  <a:pt x="495" y="596"/>
                </a:cubicBezTo>
                <a:cubicBezTo>
                  <a:pt x="501" y="606"/>
                  <a:pt x="512" y="611"/>
                  <a:pt x="518" y="620"/>
                </a:cubicBezTo>
                <a:cubicBezTo>
                  <a:pt x="563" y="689"/>
                  <a:pt x="514" y="648"/>
                  <a:pt x="576" y="689"/>
                </a:cubicBezTo>
                <a:cubicBezTo>
                  <a:pt x="591" y="643"/>
                  <a:pt x="594" y="603"/>
                  <a:pt x="622" y="562"/>
                </a:cubicBezTo>
                <a:cubicBezTo>
                  <a:pt x="622" y="561"/>
                  <a:pt x="643" y="494"/>
                  <a:pt x="645" y="493"/>
                </a:cubicBezTo>
                <a:cubicBezTo>
                  <a:pt x="656" y="488"/>
                  <a:pt x="668" y="500"/>
                  <a:pt x="680" y="504"/>
                </a:cubicBezTo>
                <a:cubicBezTo>
                  <a:pt x="763" y="587"/>
                  <a:pt x="730" y="547"/>
                  <a:pt x="783" y="620"/>
                </a:cubicBezTo>
                <a:cubicBezTo>
                  <a:pt x="772" y="624"/>
                  <a:pt x="761" y="631"/>
                  <a:pt x="749" y="631"/>
                </a:cubicBezTo>
                <a:cubicBezTo>
                  <a:pt x="718" y="631"/>
                  <a:pt x="687" y="614"/>
                  <a:pt x="656" y="620"/>
                </a:cubicBezTo>
                <a:cubicBezTo>
                  <a:pt x="643" y="623"/>
                  <a:pt x="641" y="643"/>
                  <a:pt x="633" y="654"/>
                </a:cubicBezTo>
                <a:cubicBezTo>
                  <a:pt x="660" y="695"/>
                  <a:pt x="679" y="708"/>
                  <a:pt x="726" y="723"/>
                </a:cubicBezTo>
                <a:cubicBezTo>
                  <a:pt x="770" y="790"/>
                  <a:pt x="750" y="789"/>
                  <a:pt x="680" y="804"/>
                </a:cubicBezTo>
                <a:cubicBezTo>
                  <a:pt x="661" y="800"/>
                  <a:pt x="640" y="799"/>
                  <a:pt x="622" y="792"/>
                </a:cubicBezTo>
                <a:cubicBezTo>
                  <a:pt x="609" y="787"/>
                  <a:pt x="601" y="766"/>
                  <a:pt x="587" y="769"/>
                </a:cubicBezTo>
                <a:cubicBezTo>
                  <a:pt x="549" y="778"/>
                  <a:pt x="521" y="814"/>
                  <a:pt x="484" y="827"/>
                </a:cubicBezTo>
                <a:cubicBezTo>
                  <a:pt x="453" y="737"/>
                  <a:pt x="389" y="703"/>
                  <a:pt x="299" y="689"/>
                </a:cubicBezTo>
                <a:cubicBezTo>
                  <a:pt x="220" y="742"/>
                  <a:pt x="256" y="744"/>
                  <a:pt x="196" y="723"/>
                </a:cubicBezTo>
                <a:cubicBezTo>
                  <a:pt x="181" y="746"/>
                  <a:pt x="159" y="766"/>
                  <a:pt x="150" y="792"/>
                </a:cubicBezTo>
                <a:cubicBezTo>
                  <a:pt x="146" y="804"/>
                  <a:pt x="147" y="818"/>
                  <a:pt x="138" y="827"/>
                </a:cubicBezTo>
                <a:cubicBezTo>
                  <a:pt x="130" y="835"/>
                  <a:pt x="115" y="834"/>
                  <a:pt x="104" y="838"/>
                </a:cubicBezTo>
                <a:cubicBezTo>
                  <a:pt x="71" y="887"/>
                  <a:pt x="54" y="930"/>
                  <a:pt x="23" y="977"/>
                </a:cubicBezTo>
                <a:cubicBezTo>
                  <a:pt x="16" y="1004"/>
                  <a:pt x="0" y="1029"/>
                  <a:pt x="0" y="1057"/>
                </a:cubicBezTo>
                <a:cubicBezTo>
                  <a:pt x="0" y="1139"/>
                  <a:pt x="50" y="1188"/>
                  <a:pt x="104" y="1242"/>
                </a:cubicBezTo>
                <a:cubicBezTo>
                  <a:pt x="156" y="1294"/>
                  <a:pt x="95" y="1265"/>
                  <a:pt x="161" y="1288"/>
                </a:cubicBezTo>
                <a:cubicBezTo>
                  <a:pt x="231" y="1270"/>
                  <a:pt x="244" y="1265"/>
                  <a:pt x="322" y="1276"/>
                </a:cubicBezTo>
                <a:cubicBezTo>
                  <a:pt x="363" y="1303"/>
                  <a:pt x="376" y="1323"/>
                  <a:pt x="392" y="1368"/>
                </a:cubicBezTo>
                <a:cubicBezTo>
                  <a:pt x="395" y="1393"/>
                  <a:pt x="397" y="1462"/>
                  <a:pt x="415" y="1495"/>
                </a:cubicBezTo>
                <a:cubicBezTo>
                  <a:pt x="428" y="1519"/>
                  <a:pt x="461" y="1564"/>
                  <a:pt x="461" y="1564"/>
                </a:cubicBezTo>
                <a:cubicBezTo>
                  <a:pt x="479" y="1622"/>
                  <a:pt x="476" y="1587"/>
                  <a:pt x="449" y="1668"/>
                </a:cubicBezTo>
                <a:cubicBezTo>
                  <a:pt x="445" y="1679"/>
                  <a:pt x="442" y="1691"/>
                  <a:pt x="438" y="1702"/>
                </a:cubicBezTo>
                <a:cubicBezTo>
                  <a:pt x="434" y="1714"/>
                  <a:pt x="426" y="1737"/>
                  <a:pt x="426" y="1737"/>
                </a:cubicBezTo>
                <a:cubicBezTo>
                  <a:pt x="443" y="1837"/>
                  <a:pt x="432" y="1831"/>
                  <a:pt x="530" y="1864"/>
                </a:cubicBezTo>
                <a:cubicBezTo>
                  <a:pt x="557" y="1944"/>
                  <a:pt x="546" y="1910"/>
                  <a:pt x="564" y="1967"/>
                </a:cubicBezTo>
                <a:cubicBezTo>
                  <a:pt x="571" y="1990"/>
                  <a:pt x="633" y="1990"/>
                  <a:pt x="633" y="1990"/>
                </a:cubicBezTo>
                <a:cubicBezTo>
                  <a:pt x="645" y="1979"/>
                  <a:pt x="660" y="1970"/>
                  <a:pt x="668" y="1956"/>
                </a:cubicBezTo>
                <a:cubicBezTo>
                  <a:pt x="710" y="1881"/>
                  <a:pt x="671" y="1874"/>
                  <a:pt x="737" y="1829"/>
                </a:cubicBezTo>
                <a:cubicBezTo>
                  <a:pt x="761" y="1760"/>
                  <a:pt x="765" y="1699"/>
                  <a:pt x="829" y="1656"/>
                </a:cubicBezTo>
                <a:cubicBezTo>
                  <a:pt x="848" y="1602"/>
                  <a:pt x="848" y="1620"/>
                  <a:pt x="829" y="1541"/>
                </a:cubicBezTo>
                <a:cubicBezTo>
                  <a:pt x="823" y="1517"/>
                  <a:pt x="806" y="1472"/>
                  <a:pt x="806" y="1472"/>
                </a:cubicBezTo>
                <a:cubicBezTo>
                  <a:pt x="829" y="1457"/>
                  <a:pt x="852" y="1441"/>
                  <a:pt x="875" y="1426"/>
                </a:cubicBezTo>
                <a:cubicBezTo>
                  <a:pt x="885" y="1419"/>
                  <a:pt x="881" y="1402"/>
                  <a:pt x="887" y="1391"/>
                </a:cubicBezTo>
                <a:cubicBezTo>
                  <a:pt x="908" y="1350"/>
                  <a:pt x="905" y="1359"/>
                  <a:pt x="944" y="1345"/>
                </a:cubicBezTo>
                <a:cubicBezTo>
                  <a:pt x="966" y="1283"/>
                  <a:pt x="1043" y="1196"/>
                  <a:pt x="933" y="1161"/>
                </a:cubicBezTo>
                <a:cubicBezTo>
                  <a:pt x="866" y="1182"/>
                  <a:pt x="873" y="1203"/>
                  <a:pt x="852" y="1276"/>
                </a:cubicBezTo>
                <a:cubicBezTo>
                  <a:pt x="840" y="1227"/>
                  <a:pt x="841" y="1175"/>
                  <a:pt x="829" y="1126"/>
                </a:cubicBezTo>
                <a:cubicBezTo>
                  <a:pt x="824" y="1106"/>
                  <a:pt x="783" y="1069"/>
                  <a:pt x="772" y="1057"/>
                </a:cubicBezTo>
                <a:cubicBezTo>
                  <a:pt x="760" y="1023"/>
                  <a:pt x="749" y="988"/>
                  <a:pt x="737" y="954"/>
                </a:cubicBezTo>
                <a:cubicBezTo>
                  <a:pt x="741" y="939"/>
                  <a:pt x="734" y="902"/>
                  <a:pt x="749" y="908"/>
                </a:cubicBezTo>
                <a:cubicBezTo>
                  <a:pt x="787" y="923"/>
                  <a:pt x="795" y="977"/>
                  <a:pt x="818" y="1011"/>
                </a:cubicBezTo>
                <a:cubicBezTo>
                  <a:pt x="826" y="1023"/>
                  <a:pt x="833" y="1034"/>
                  <a:pt x="841" y="1046"/>
                </a:cubicBezTo>
                <a:cubicBezTo>
                  <a:pt x="849" y="1057"/>
                  <a:pt x="864" y="1080"/>
                  <a:pt x="864" y="1080"/>
                </a:cubicBezTo>
                <a:cubicBezTo>
                  <a:pt x="881" y="1134"/>
                  <a:pt x="888" y="1146"/>
                  <a:pt x="944" y="1126"/>
                </a:cubicBezTo>
                <a:cubicBezTo>
                  <a:pt x="991" y="1060"/>
                  <a:pt x="1032" y="1047"/>
                  <a:pt x="1106" y="1034"/>
                </a:cubicBezTo>
                <a:cubicBezTo>
                  <a:pt x="1121" y="1026"/>
                  <a:pt x="1145" y="1027"/>
                  <a:pt x="1152" y="1011"/>
                </a:cubicBezTo>
                <a:cubicBezTo>
                  <a:pt x="1190" y="921"/>
                  <a:pt x="993" y="922"/>
                  <a:pt x="968" y="919"/>
                </a:cubicBezTo>
                <a:cubicBezTo>
                  <a:pt x="930" y="882"/>
                  <a:pt x="932" y="866"/>
                  <a:pt x="944" y="815"/>
                </a:cubicBezTo>
                <a:cubicBezTo>
                  <a:pt x="956" y="823"/>
                  <a:pt x="966" y="832"/>
                  <a:pt x="979" y="838"/>
                </a:cubicBezTo>
                <a:cubicBezTo>
                  <a:pt x="1001" y="848"/>
                  <a:pt x="1048" y="861"/>
                  <a:pt x="1048" y="861"/>
                </a:cubicBezTo>
                <a:cubicBezTo>
                  <a:pt x="1096" y="935"/>
                  <a:pt x="1123" y="921"/>
                  <a:pt x="1221" y="931"/>
                </a:cubicBezTo>
                <a:cubicBezTo>
                  <a:pt x="1241" y="971"/>
                  <a:pt x="1274" y="1063"/>
                  <a:pt x="1302" y="1103"/>
                </a:cubicBezTo>
                <a:cubicBezTo>
                  <a:pt x="1324" y="1134"/>
                  <a:pt x="1355" y="1168"/>
                  <a:pt x="1382" y="1196"/>
                </a:cubicBezTo>
                <a:cubicBezTo>
                  <a:pt x="1386" y="1215"/>
                  <a:pt x="1389" y="1234"/>
                  <a:pt x="1394" y="1253"/>
                </a:cubicBezTo>
                <a:cubicBezTo>
                  <a:pt x="1397" y="1265"/>
                  <a:pt x="1393" y="1285"/>
                  <a:pt x="1405" y="1288"/>
                </a:cubicBezTo>
                <a:cubicBezTo>
                  <a:pt x="1419" y="1292"/>
                  <a:pt x="1428" y="1273"/>
                  <a:pt x="1440" y="1265"/>
                </a:cubicBezTo>
                <a:cubicBezTo>
                  <a:pt x="1425" y="1242"/>
                  <a:pt x="1409" y="1219"/>
                  <a:pt x="1394" y="1196"/>
                </a:cubicBezTo>
                <a:cubicBezTo>
                  <a:pt x="1353" y="1134"/>
                  <a:pt x="1433" y="1061"/>
                  <a:pt x="1474" y="1034"/>
                </a:cubicBezTo>
                <a:cubicBezTo>
                  <a:pt x="1478" y="1023"/>
                  <a:pt x="1494" y="968"/>
                  <a:pt x="1509" y="965"/>
                </a:cubicBezTo>
                <a:cubicBezTo>
                  <a:pt x="1523" y="962"/>
                  <a:pt x="1532" y="980"/>
                  <a:pt x="1544" y="988"/>
                </a:cubicBezTo>
                <a:cubicBezTo>
                  <a:pt x="1597" y="1067"/>
                  <a:pt x="1564" y="1048"/>
                  <a:pt x="1624" y="1069"/>
                </a:cubicBezTo>
                <a:cubicBezTo>
                  <a:pt x="1645" y="1130"/>
                  <a:pt x="1670" y="1188"/>
                  <a:pt x="1705" y="1242"/>
                </a:cubicBezTo>
                <a:cubicBezTo>
                  <a:pt x="1701" y="1276"/>
                  <a:pt x="1721" y="1325"/>
                  <a:pt x="1693" y="1345"/>
                </a:cubicBezTo>
                <a:cubicBezTo>
                  <a:pt x="1670" y="1361"/>
                  <a:pt x="1624" y="1299"/>
                  <a:pt x="1624" y="1299"/>
                </a:cubicBezTo>
                <a:cubicBezTo>
                  <a:pt x="1667" y="1363"/>
                  <a:pt x="1687" y="1384"/>
                  <a:pt x="1751" y="1426"/>
                </a:cubicBezTo>
                <a:cubicBezTo>
                  <a:pt x="1770" y="1485"/>
                  <a:pt x="1809" y="1523"/>
                  <a:pt x="1866" y="1541"/>
                </a:cubicBezTo>
                <a:cubicBezTo>
                  <a:pt x="1882" y="1546"/>
                  <a:pt x="1834" y="1529"/>
                  <a:pt x="1820" y="1518"/>
                </a:cubicBezTo>
                <a:cubicBezTo>
                  <a:pt x="1798" y="1501"/>
                  <a:pt x="1762" y="1460"/>
                  <a:pt x="1762" y="1460"/>
                </a:cubicBezTo>
                <a:cubicBezTo>
                  <a:pt x="1761" y="1446"/>
                  <a:pt x="1764" y="1322"/>
                  <a:pt x="1739" y="1276"/>
                </a:cubicBezTo>
                <a:cubicBezTo>
                  <a:pt x="1726" y="1252"/>
                  <a:pt x="1693" y="1207"/>
                  <a:pt x="1693" y="1207"/>
                </a:cubicBezTo>
                <a:cubicBezTo>
                  <a:pt x="1689" y="1184"/>
                  <a:pt x="1674" y="1160"/>
                  <a:pt x="1682" y="1138"/>
                </a:cubicBezTo>
                <a:cubicBezTo>
                  <a:pt x="1686" y="1125"/>
                  <a:pt x="1696" y="1161"/>
                  <a:pt x="1705" y="1172"/>
                </a:cubicBezTo>
                <a:cubicBezTo>
                  <a:pt x="1725" y="1198"/>
                  <a:pt x="1734" y="1200"/>
                  <a:pt x="1762" y="1219"/>
                </a:cubicBezTo>
                <a:cubicBezTo>
                  <a:pt x="1774" y="1207"/>
                  <a:pt x="1788" y="1198"/>
                  <a:pt x="1797" y="1184"/>
                </a:cubicBezTo>
                <a:cubicBezTo>
                  <a:pt x="1826" y="1140"/>
                  <a:pt x="1774" y="1114"/>
                  <a:pt x="1751" y="1080"/>
                </a:cubicBezTo>
                <a:cubicBezTo>
                  <a:pt x="1771" y="935"/>
                  <a:pt x="1730" y="1042"/>
                  <a:pt x="1878" y="988"/>
                </a:cubicBezTo>
                <a:cubicBezTo>
                  <a:pt x="1889" y="984"/>
                  <a:pt x="1882" y="963"/>
                  <a:pt x="1889" y="954"/>
                </a:cubicBezTo>
                <a:cubicBezTo>
                  <a:pt x="1898" y="943"/>
                  <a:pt x="1912" y="939"/>
                  <a:pt x="1924" y="931"/>
                </a:cubicBezTo>
                <a:cubicBezTo>
                  <a:pt x="1939" y="885"/>
                  <a:pt x="1941" y="759"/>
                  <a:pt x="1912" y="723"/>
                </a:cubicBezTo>
                <a:cubicBezTo>
                  <a:pt x="1905" y="714"/>
                  <a:pt x="1889" y="717"/>
                  <a:pt x="1878" y="712"/>
                </a:cubicBezTo>
                <a:cubicBezTo>
                  <a:pt x="1862" y="705"/>
                  <a:pt x="1847" y="697"/>
                  <a:pt x="1832" y="689"/>
                </a:cubicBezTo>
                <a:cubicBezTo>
                  <a:pt x="1811" y="627"/>
                  <a:pt x="1813" y="666"/>
                  <a:pt x="1866" y="666"/>
                </a:cubicBezTo>
                <a:cubicBezTo>
                  <a:pt x="1878" y="666"/>
                  <a:pt x="1889" y="658"/>
                  <a:pt x="1901" y="654"/>
                </a:cubicBezTo>
                <a:cubicBezTo>
                  <a:pt x="1909" y="666"/>
                  <a:pt x="1942" y="729"/>
                  <a:pt x="1970" y="712"/>
                </a:cubicBezTo>
                <a:cubicBezTo>
                  <a:pt x="1987" y="702"/>
                  <a:pt x="1976" y="673"/>
                  <a:pt x="1981" y="654"/>
                </a:cubicBezTo>
                <a:cubicBezTo>
                  <a:pt x="1992" y="611"/>
                  <a:pt x="1990" y="622"/>
                  <a:pt x="2027" y="596"/>
                </a:cubicBezTo>
                <a:cubicBezTo>
                  <a:pt x="2057" y="512"/>
                  <a:pt x="2068" y="555"/>
                  <a:pt x="2050" y="447"/>
                </a:cubicBezTo>
                <a:cubicBezTo>
                  <a:pt x="2047" y="428"/>
                  <a:pt x="2052" y="404"/>
                  <a:pt x="2039" y="389"/>
                </a:cubicBezTo>
                <a:cubicBezTo>
                  <a:pt x="2037" y="387"/>
                  <a:pt x="1946" y="368"/>
                  <a:pt x="1935" y="366"/>
                </a:cubicBezTo>
                <a:cubicBezTo>
                  <a:pt x="1939" y="343"/>
                  <a:pt x="1940" y="319"/>
                  <a:pt x="1947" y="297"/>
                </a:cubicBezTo>
                <a:cubicBezTo>
                  <a:pt x="1951" y="284"/>
                  <a:pt x="1956" y="264"/>
                  <a:pt x="1970" y="262"/>
                </a:cubicBezTo>
                <a:cubicBezTo>
                  <a:pt x="2002" y="257"/>
                  <a:pt x="2031" y="286"/>
                  <a:pt x="2062" y="297"/>
                </a:cubicBezTo>
                <a:cubicBezTo>
                  <a:pt x="2077" y="293"/>
                  <a:pt x="2093" y="289"/>
                  <a:pt x="2108" y="285"/>
                </a:cubicBezTo>
                <a:cubicBezTo>
                  <a:pt x="2120" y="282"/>
                  <a:pt x="2134" y="265"/>
                  <a:pt x="2143" y="274"/>
                </a:cubicBezTo>
                <a:cubicBezTo>
                  <a:pt x="2160" y="291"/>
                  <a:pt x="2153" y="323"/>
                  <a:pt x="2166" y="343"/>
                </a:cubicBezTo>
                <a:cubicBezTo>
                  <a:pt x="2197" y="389"/>
                  <a:pt x="2177" y="370"/>
                  <a:pt x="2223" y="401"/>
                </a:cubicBezTo>
                <a:cubicBezTo>
                  <a:pt x="2214" y="382"/>
                  <a:pt x="2151" y="307"/>
                  <a:pt x="2189" y="285"/>
                </a:cubicBezTo>
                <a:cubicBezTo>
                  <a:pt x="2209" y="273"/>
                  <a:pt x="2235" y="278"/>
                  <a:pt x="2258" y="274"/>
                </a:cubicBezTo>
                <a:cubicBezTo>
                  <a:pt x="2262" y="251"/>
                  <a:pt x="2275" y="227"/>
                  <a:pt x="2269" y="205"/>
                </a:cubicBezTo>
                <a:cubicBezTo>
                  <a:pt x="2266" y="193"/>
                  <a:pt x="2247" y="195"/>
                  <a:pt x="2235" y="193"/>
                </a:cubicBezTo>
                <a:cubicBezTo>
                  <a:pt x="2189" y="184"/>
                  <a:pt x="2142" y="178"/>
                  <a:pt x="2096" y="170"/>
                </a:cubicBezTo>
                <a:cubicBezTo>
                  <a:pt x="2088" y="159"/>
                  <a:pt x="2084" y="145"/>
                  <a:pt x="2073" y="136"/>
                </a:cubicBezTo>
                <a:cubicBezTo>
                  <a:pt x="2038" y="108"/>
                  <a:pt x="1911" y="94"/>
                  <a:pt x="1878" y="90"/>
                </a:cubicBezTo>
                <a:cubicBezTo>
                  <a:pt x="1764" y="51"/>
                  <a:pt x="1635" y="112"/>
                  <a:pt x="1532" y="44"/>
                </a:cubicBezTo>
                <a:cubicBezTo>
                  <a:pt x="1501" y="48"/>
                  <a:pt x="1470" y="64"/>
                  <a:pt x="1440" y="55"/>
                </a:cubicBezTo>
                <a:cubicBezTo>
                  <a:pt x="1424" y="50"/>
                  <a:pt x="1433" y="14"/>
                  <a:pt x="1417" y="9"/>
                </a:cubicBezTo>
                <a:cubicBezTo>
                  <a:pt x="1387" y="0"/>
                  <a:pt x="1356" y="16"/>
                  <a:pt x="1325" y="20"/>
                </a:cubicBezTo>
                <a:cubicBezTo>
                  <a:pt x="1148" y="43"/>
                  <a:pt x="1345" y="26"/>
                  <a:pt x="1048" y="44"/>
                </a:cubicBezTo>
                <a:cubicBezTo>
                  <a:pt x="1044" y="55"/>
                  <a:pt x="1040" y="67"/>
                  <a:pt x="1037" y="78"/>
                </a:cubicBezTo>
                <a:cubicBezTo>
                  <a:pt x="1033" y="93"/>
                  <a:pt x="1038" y="114"/>
                  <a:pt x="1025" y="124"/>
                </a:cubicBezTo>
                <a:cubicBezTo>
                  <a:pt x="1016" y="131"/>
                  <a:pt x="1002" y="117"/>
                  <a:pt x="991" y="113"/>
                </a:cubicBezTo>
                <a:cubicBezTo>
                  <a:pt x="919" y="127"/>
                  <a:pt x="867" y="159"/>
                  <a:pt x="795" y="170"/>
                </a:cubicBezTo>
                <a:cubicBezTo>
                  <a:pt x="772" y="178"/>
                  <a:pt x="749" y="185"/>
                  <a:pt x="726" y="193"/>
                </a:cubicBezTo>
                <a:cubicBezTo>
                  <a:pt x="714" y="197"/>
                  <a:pt x="691" y="205"/>
                  <a:pt x="691" y="205"/>
                </a:cubicBezTo>
                <a:cubicBezTo>
                  <a:pt x="679" y="201"/>
                  <a:pt x="662" y="204"/>
                  <a:pt x="656" y="193"/>
                </a:cubicBezTo>
                <a:cubicBezTo>
                  <a:pt x="639" y="159"/>
                  <a:pt x="691" y="151"/>
                  <a:pt x="703" y="147"/>
                </a:cubicBezTo>
                <a:cubicBezTo>
                  <a:pt x="613" y="111"/>
                  <a:pt x="574" y="114"/>
                  <a:pt x="472" y="124"/>
                </a:cubicBezTo>
                <a:cubicBezTo>
                  <a:pt x="471" y="127"/>
                  <a:pt x="452" y="190"/>
                  <a:pt x="449" y="193"/>
                </a:cubicBezTo>
                <a:cubicBezTo>
                  <a:pt x="446" y="196"/>
                  <a:pt x="383" y="215"/>
                  <a:pt x="380" y="216"/>
                </a:cubicBezTo>
                <a:cubicBezTo>
                  <a:pt x="372" y="239"/>
                  <a:pt x="349" y="262"/>
                  <a:pt x="357" y="285"/>
                </a:cubicBezTo>
                <a:cubicBezTo>
                  <a:pt x="365" y="308"/>
                  <a:pt x="380" y="355"/>
                  <a:pt x="380" y="355"/>
                </a:cubicBezTo>
                <a:cubicBezTo>
                  <a:pt x="376" y="370"/>
                  <a:pt x="383" y="396"/>
                  <a:pt x="368" y="401"/>
                </a:cubicBezTo>
                <a:cubicBezTo>
                  <a:pt x="355" y="405"/>
                  <a:pt x="359" y="366"/>
                  <a:pt x="345" y="366"/>
                </a:cubicBezTo>
                <a:cubicBezTo>
                  <a:pt x="331" y="366"/>
                  <a:pt x="330" y="389"/>
                  <a:pt x="322" y="401"/>
                </a:cubicBezTo>
                <a:cubicBezTo>
                  <a:pt x="311" y="397"/>
                  <a:pt x="299" y="394"/>
                  <a:pt x="288" y="389"/>
                </a:cubicBezTo>
                <a:cubicBezTo>
                  <a:pt x="276" y="383"/>
                  <a:pt x="267" y="366"/>
                  <a:pt x="253" y="366"/>
                </a:cubicBezTo>
                <a:cubicBezTo>
                  <a:pt x="239" y="366"/>
                  <a:pt x="230" y="381"/>
                  <a:pt x="219" y="389"/>
                </a:cubicBezTo>
                <a:cubicBezTo>
                  <a:pt x="232" y="485"/>
                  <a:pt x="239" y="464"/>
                  <a:pt x="265" y="539"/>
                </a:cubicBezTo>
                <a:cubicBezTo>
                  <a:pt x="261" y="550"/>
                  <a:pt x="261" y="565"/>
                  <a:pt x="253" y="573"/>
                </a:cubicBezTo>
                <a:cubicBezTo>
                  <a:pt x="245" y="581"/>
                  <a:pt x="230" y="580"/>
                  <a:pt x="219" y="585"/>
                </a:cubicBezTo>
                <a:cubicBezTo>
                  <a:pt x="130" y="630"/>
                  <a:pt x="235" y="590"/>
                  <a:pt x="150" y="620"/>
                </a:cubicBezTo>
                <a:cubicBezTo>
                  <a:pt x="119" y="709"/>
                  <a:pt x="155" y="690"/>
                  <a:pt x="242" y="700"/>
                </a:cubicBezTo>
                <a:cubicBezTo>
                  <a:pt x="273" y="696"/>
                  <a:pt x="314" y="712"/>
                  <a:pt x="334" y="689"/>
                </a:cubicBezTo>
                <a:cubicBezTo>
                  <a:pt x="352" y="668"/>
                  <a:pt x="322" y="635"/>
                  <a:pt x="322" y="608"/>
                </a:cubicBezTo>
                <a:cubicBezTo>
                  <a:pt x="322" y="596"/>
                  <a:pt x="334" y="573"/>
                  <a:pt x="334" y="573"/>
                </a:cubicBezTo>
              </a:path>
            </a:pathLst>
          </a:custGeom>
          <a:solidFill>
            <a:srgbClr val="ffcc00"/>
          </a:solidFill>
          <a:ln w="57240">
            <a:solidFill>
              <a:srgbClr val="ffcc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42200" y="3138480"/>
            <a:ext cx="563400" cy="430200"/>
          </a:xfrm>
          <a:custGeom>
            <a:avLst/>
            <a:gdLst/>
            <a:ahLst/>
            <a:rect l="l" t="t" r="r" b="b"/>
            <a:pathLst>
              <a:path w="355" h="271">
                <a:moveTo>
                  <a:pt x="29" y="9"/>
                </a:moveTo>
                <a:cubicBezTo>
                  <a:pt x="53" y="102"/>
                  <a:pt x="27" y="82"/>
                  <a:pt x="133" y="113"/>
                </a:cubicBezTo>
                <a:cubicBezTo>
                  <a:pt x="141" y="124"/>
                  <a:pt x="151" y="134"/>
                  <a:pt x="156" y="147"/>
                </a:cubicBezTo>
                <a:cubicBezTo>
                  <a:pt x="163" y="165"/>
                  <a:pt x="149" y="197"/>
                  <a:pt x="167" y="205"/>
                </a:cubicBezTo>
                <a:cubicBezTo>
                  <a:pt x="189" y="215"/>
                  <a:pt x="236" y="182"/>
                  <a:pt x="236" y="182"/>
                </a:cubicBezTo>
                <a:cubicBezTo>
                  <a:pt x="248" y="193"/>
                  <a:pt x="257" y="207"/>
                  <a:pt x="271" y="216"/>
                </a:cubicBezTo>
                <a:cubicBezTo>
                  <a:pt x="355" y="271"/>
                  <a:pt x="266" y="133"/>
                  <a:pt x="259" y="113"/>
                </a:cubicBezTo>
                <a:cubicBezTo>
                  <a:pt x="189" y="160"/>
                  <a:pt x="253" y="133"/>
                  <a:pt x="213" y="101"/>
                </a:cubicBezTo>
                <a:cubicBezTo>
                  <a:pt x="201" y="91"/>
                  <a:pt x="182" y="93"/>
                  <a:pt x="167" y="89"/>
                </a:cubicBezTo>
                <a:cubicBezTo>
                  <a:pt x="133" y="66"/>
                  <a:pt x="103" y="57"/>
                  <a:pt x="64" y="43"/>
                </a:cubicBezTo>
                <a:cubicBezTo>
                  <a:pt x="60" y="32"/>
                  <a:pt x="63" y="14"/>
                  <a:pt x="52" y="9"/>
                </a:cubicBezTo>
                <a:cubicBezTo>
                  <a:pt x="34" y="0"/>
                  <a:pt x="0" y="38"/>
                  <a:pt x="29" y="9"/>
                </a:cubicBezTo>
                <a:close/>
              </a:path>
            </a:pathLst>
          </a:custGeom>
          <a:solidFill>
            <a:srgbClr val="ffcc00"/>
          </a:solidFill>
          <a:ln w="57240">
            <a:solidFill>
              <a:srgbClr val="ffcc00"/>
            </a:solidFill>
            <a:round/>
          </a:ln>
          <a:effectLst>
            <a:outerShdw dist="36147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38920" y="2987640"/>
            <a:ext cx="271440" cy="306360"/>
          </a:xfrm>
          <a:custGeom>
            <a:avLst/>
            <a:gdLst/>
            <a:ahLst/>
            <a:rect l="l" t="t" r="r" b="b"/>
            <a:pathLst>
              <a:path w="171" h="193">
                <a:moveTo>
                  <a:pt x="93" y="0"/>
                </a:moveTo>
                <a:cubicBezTo>
                  <a:pt x="70" y="23"/>
                  <a:pt x="47" y="46"/>
                  <a:pt x="24" y="69"/>
                </a:cubicBezTo>
                <a:cubicBezTo>
                  <a:pt x="16" y="77"/>
                  <a:pt x="0" y="92"/>
                  <a:pt x="0" y="92"/>
                </a:cubicBezTo>
                <a:cubicBezTo>
                  <a:pt x="66" y="158"/>
                  <a:pt x="49" y="124"/>
                  <a:pt x="70" y="184"/>
                </a:cubicBezTo>
                <a:cubicBezTo>
                  <a:pt x="143" y="160"/>
                  <a:pt x="72" y="193"/>
                  <a:pt x="116" y="138"/>
                </a:cubicBezTo>
                <a:cubicBezTo>
                  <a:pt x="125" y="127"/>
                  <a:pt x="139" y="123"/>
                  <a:pt x="150" y="115"/>
                </a:cubicBezTo>
                <a:cubicBezTo>
                  <a:pt x="171" y="56"/>
                  <a:pt x="163" y="0"/>
                  <a:pt x="93" y="0"/>
                </a:cubicBezTo>
                <a:close/>
              </a:path>
            </a:pathLst>
          </a:custGeom>
          <a:solidFill>
            <a:srgbClr val="ffcc00"/>
          </a:solidFill>
          <a:ln w="57240">
            <a:solidFill>
              <a:srgbClr val="ffcc00"/>
            </a:solidFill>
            <a:round/>
          </a:ln>
          <a:effectLst>
            <a:outerShdw dist="36147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23040" y="1739880"/>
            <a:ext cx="225360" cy="442800"/>
          </a:xfrm>
          <a:custGeom>
            <a:avLst/>
            <a:gdLst/>
            <a:ahLst/>
            <a:rect l="l" t="t" r="r" b="b"/>
            <a:pathLst>
              <a:path w="142" h="279">
                <a:moveTo>
                  <a:pt x="46" y="72"/>
                </a:moveTo>
                <a:cubicBezTo>
                  <a:pt x="58" y="60"/>
                  <a:pt x="96" y="9"/>
                  <a:pt x="104" y="83"/>
                </a:cubicBezTo>
                <a:cubicBezTo>
                  <a:pt x="110" y="140"/>
                  <a:pt x="97" y="198"/>
                  <a:pt x="93" y="256"/>
                </a:cubicBezTo>
                <a:cubicBezTo>
                  <a:pt x="77" y="252"/>
                  <a:pt x="61" y="241"/>
                  <a:pt x="46" y="245"/>
                </a:cubicBezTo>
                <a:cubicBezTo>
                  <a:pt x="31" y="249"/>
                  <a:pt x="28" y="279"/>
                  <a:pt x="12" y="279"/>
                </a:cubicBezTo>
                <a:cubicBezTo>
                  <a:pt x="0" y="279"/>
                  <a:pt x="15" y="253"/>
                  <a:pt x="23" y="245"/>
                </a:cubicBezTo>
                <a:cubicBezTo>
                  <a:pt x="32" y="236"/>
                  <a:pt x="46" y="237"/>
                  <a:pt x="58" y="233"/>
                </a:cubicBezTo>
                <a:cubicBezTo>
                  <a:pt x="62" y="222"/>
                  <a:pt x="65" y="210"/>
                  <a:pt x="70" y="199"/>
                </a:cubicBezTo>
                <a:cubicBezTo>
                  <a:pt x="76" y="187"/>
                  <a:pt x="91" y="178"/>
                  <a:pt x="93" y="164"/>
                </a:cubicBezTo>
                <a:cubicBezTo>
                  <a:pt x="97" y="134"/>
                  <a:pt x="72" y="105"/>
                  <a:pt x="58" y="83"/>
                </a:cubicBezTo>
                <a:cubicBezTo>
                  <a:pt x="61" y="73"/>
                  <a:pt x="75" y="0"/>
                  <a:pt x="104" y="72"/>
                </a:cubicBezTo>
                <a:cubicBezTo>
                  <a:pt x="142" y="167"/>
                  <a:pt x="62" y="72"/>
                  <a:pt x="104" y="118"/>
                </a:cubicBezTo>
              </a:path>
            </a:pathLst>
          </a:custGeom>
          <a:solidFill>
            <a:srgbClr val="ffcc00"/>
          </a:solidFill>
          <a:ln w="57240">
            <a:solidFill>
              <a:srgbClr val="ffcc00"/>
            </a:solidFill>
            <a:round/>
          </a:ln>
          <a:effectLst>
            <a:outerShdw dist="36147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68680" y="920880"/>
            <a:ext cx="666720" cy="507960"/>
          </a:xfrm>
          <a:custGeom>
            <a:avLst/>
            <a:gdLst/>
            <a:ahLst/>
            <a:rect l="l" t="t" r="r" b="b"/>
            <a:pathLst>
              <a:path w="420" h="320">
                <a:moveTo>
                  <a:pt x="300" y="104"/>
                </a:moveTo>
                <a:cubicBezTo>
                  <a:pt x="312" y="108"/>
                  <a:pt x="324" y="110"/>
                  <a:pt x="335" y="116"/>
                </a:cubicBezTo>
                <a:cubicBezTo>
                  <a:pt x="359" y="129"/>
                  <a:pt x="404" y="162"/>
                  <a:pt x="404" y="162"/>
                </a:cubicBezTo>
                <a:cubicBezTo>
                  <a:pt x="408" y="173"/>
                  <a:pt x="420" y="185"/>
                  <a:pt x="416" y="196"/>
                </a:cubicBezTo>
                <a:cubicBezTo>
                  <a:pt x="411" y="209"/>
                  <a:pt x="392" y="228"/>
                  <a:pt x="381" y="219"/>
                </a:cubicBezTo>
                <a:cubicBezTo>
                  <a:pt x="362" y="204"/>
                  <a:pt x="366" y="173"/>
                  <a:pt x="358" y="150"/>
                </a:cubicBezTo>
                <a:cubicBezTo>
                  <a:pt x="354" y="137"/>
                  <a:pt x="335" y="135"/>
                  <a:pt x="323" y="127"/>
                </a:cubicBezTo>
                <a:cubicBezTo>
                  <a:pt x="300" y="131"/>
                  <a:pt x="277" y="139"/>
                  <a:pt x="254" y="139"/>
                </a:cubicBezTo>
                <a:cubicBezTo>
                  <a:pt x="242" y="139"/>
                  <a:pt x="220" y="139"/>
                  <a:pt x="220" y="127"/>
                </a:cubicBezTo>
                <a:cubicBezTo>
                  <a:pt x="220" y="113"/>
                  <a:pt x="243" y="112"/>
                  <a:pt x="254" y="104"/>
                </a:cubicBezTo>
                <a:cubicBezTo>
                  <a:pt x="306" y="122"/>
                  <a:pt x="310" y="144"/>
                  <a:pt x="323" y="196"/>
                </a:cubicBezTo>
                <a:cubicBezTo>
                  <a:pt x="319" y="211"/>
                  <a:pt x="305" y="228"/>
                  <a:pt x="312" y="242"/>
                </a:cubicBezTo>
                <a:cubicBezTo>
                  <a:pt x="351" y="320"/>
                  <a:pt x="364" y="247"/>
                  <a:pt x="370" y="231"/>
                </a:cubicBezTo>
                <a:cubicBezTo>
                  <a:pt x="347" y="163"/>
                  <a:pt x="376" y="225"/>
                  <a:pt x="323" y="173"/>
                </a:cubicBezTo>
                <a:cubicBezTo>
                  <a:pt x="243" y="94"/>
                  <a:pt x="361" y="180"/>
                  <a:pt x="266" y="116"/>
                </a:cubicBezTo>
                <a:cubicBezTo>
                  <a:pt x="260" y="120"/>
                  <a:pt x="211" y="157"/>
                  <a:pt x="197" y="150"/>
                </a:cubicBezTo>
                <a:cubicBezTo>
                  <a:pt x="191" y="147"/>
                  <a:pt x="178" y="86"/>
                  <a:pt x="174" y="70"/>
                </a:cubicBezTo>
                <a:cubicBezTo>
                  <a:pt x="151" y="74"/>
                  <a:pt x="122" y="65"/>
                  <a:pt x="105" y="81"/>
                </a:cubicBezTo>
                <a:cubicBezTo>
                  <a:pt x="94" y="92"/>
                  <a:pt x="102" y="120"/>
                  <a:pt x="116" y="127"/>
                </a:cubicBezTo>
                <a:cubicBezTo>
                  <a:pt x="127" y="133"/>
                  <a:pt x="124" y="104"/>
                  <a:pt x="128" y="93"/>
                </a:cubicBezTo>
                <a:cubicBezTo>
                  <a:pt x="96" y="72"/>
                  <a:pt x="52" y="46"/>
                  <a:pt x="12" y="46"/>
                </a:cubicBezTo>
                <a:cubicBezTo>
                  <a:pt x="0" y="46"/>
                  <a:pt x="35" y="56"/>
                  <a:pt x="47" y="58"/>
                </a:cubicBezTo>
                <a:cubicBezTo>
                  <a:pt x="74" y="64"/>
                  <a:pt x="101" y="66"/>
                  <a:pt x="128" y="70"/>
                </a:cubicBezTo>
                <a:cubicBezTo>
                  <a:pt x="162" y="66"/>
                  <a:pt x="196" y="58"/>
                  <a:pt x="231" y="58"/>
                </a:cubicBezTo>
                <a:cubicBezTo>
                  <a:pt x="243" y="58"/>
                  <a:pt x="257" y="79"/>
                  <a:pt x="266" y="70"/>
                </a:cubicBezTo>
                <a:cubicBezTo>
                  <a:pt x="283" y="53"/>
                  <a:pt x="289" y="0"/>
                  <a:pt x="289" y="0"/>
                </a:cubicBezTo>
                <a:cubicBezTo>
                  <a:pt x="304" y="4"/>
                  <a:pt x="323" y="2"/>
                  <a:pt x="335" y="12"/>
                </a:cubicBezTo>
                <a:cubicBezTo>
                  <a:pt x="344" y="19"/>
                  <a:pt x="356" y="39"/>
                  <a:pt x="347" y="46"/>
                </a:cubicBezTo>
                <a:cubicBezTo>
                  <a:pt x="328" y="61"/>
                  <a:pt x="292" y="40"/>
                  <a:pt x="277" y="58"/>
                </a:cubicBezTo>
                <a:cubicBezTo>
                  <a:pt x="266" y="71"/>
                  <a:pt x="292" y="89"/>
                  <a:pt x="300" y="104"/>
                </a:cubicBezTo>
                <a:close/>
              </a:path>
            </a:pathLst>
          </a:custGeom>
          <a:solidFill>
            <a:srgbClr val="ffcc00"/>
          </a:solidFill>
          <a:ln w="57240">
            <a:solidFill>
              <a:srgbClr val="ffcc00"/>
            </a:solidFill>
            <a:round/>
          </a:ln>
          <a:effectLst>
            <a:outerShdw dist="36147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71440" y="1089000"/>
            <a:ext cx="2248200" cy="3673440"/>
          </a:xfrm>
          <a:custGeom>
            <a:avLst/>
            <a:gdLst/>
            <a:ahLst/>
            <a:rect l="l" t="t" r="r" b="b"/>
            <a:pathLst>
              <a:path w="1416" h="2314">
                <a:moveTo>
                  <a:pt x="944" y="1122"/>
                </a:moveTo>
                <a:cubicBezTo>
                  <a:pt x="971" y="1126"/>
                  <a:pt x="999" y="1124"/>
                  <a:pt x="1024" y="1134"/>
                </a:cubicBezTo>
                <a:cubicBezTo>
                  <a:pt x="1039" y="1140"/>
                  <a:pt x="1045" y="1159"/>
                  <a:pt x="1059" y="1168"/>
                </a:cubicBezTo>
                <a:cubicBezTo>
                  <a:pt x="1069" y="1175"/>
                  <a:pt x="1082" y="1176"/>
                  <a:pt x="1093" y="1180"/>
                </a:cubicBezTo>
                <a:cubicBezTo>
                  <a:pt x="1102" y="1194"/>
                  <a:pt x="1155" y="1276"/>
                  <a:pt x="1174" y="1295"/>
                </a:cubicBezTo>
                <a:cubicBezTo>
                  <a:pt x="1221" y="1342"/>
                  <a:pt x="1211" y="1315"/>
                  <a:pt x="1255" y="1352"/>
                </a:cubicBezTo>
                <a:cubicBezTo>
                  <a:pt x="1313" y="1401"/>
                  <a:pt x="1262" y="1379"/>
                  <a:pt x="1324" y="1398"/>
                </a:cubicBezTo>
                <a:cubicBezTo>
                  <a:pt x="1353" y="1428"/>
                  <a:pt x="1386" y="1450"/>
                  <a:pt x="1416" y="1479"/>
                </a:cubicBezTo>
                <a:cubicBezTo>
                  <a:pt x="1404" y="1535"/>
                  <a:pt x="1394" y="1558"/>
                  <a:pt x="1370" y="1606"/>
                </a:cubicBezTo>
                <a:cubicBezTo>
                  <a:pt x="1365" y="1617"/>
                  <a:pt x="1365" y="1630"/>
                  <a:pt x="1358" y="1640"/>
                </a:cubicBezTo>
                <a:cubicBezTo>
                  <a:pt x="1349" y="1654"/>
                  <a:pt x="1334" y="1662"/>
                  <a:pt x="1324" y="1675"/>
                </a:cubicBezTo>
                <a:cubicBezTo>
                  <a:pt x="1315" y="1686"/>
                  <a:pt x="1309" y="1698"/>
                  <a:pt x="1301" y="1710"/>
                </a:cubicBezTo>
                <a:cubicBezTo>
                  <a:pt x="1299" y="1716"/>
                  <a:pt x="1284" y="1779"/>
                  <a:pt x="1278" y="1790"/>
                </a:cubicBezTo>
                <a:cubicBezTo>
                  <a:pt x="1258" y="1826"/>
                  <a:pt x="1223" y="1855"/>
                  <a:pt x="1209" y="1894"/>
                </a:cubicBezTo>
                <a:cubicBezTo>
                  <a:pt x="1187" y="1956"/>
                  <a:pt x="1183" y="2032"/>
                  <a:pt x="1151" y="2090"/>
                </a:cubicBezTo>
                <a:cubicBezTo>
                  <a:pt x="1081" y="2217"/>
                  <a:pt x="1122" y="2112"/>
                  <a:pt x="1093" y="2193"/>
                </a:cubicBezTo>
                <a:cubicBezTo>
                  <a:pt x="1097" y="2228"/>
                  <a:pt x="1112" y="2263"/>
                  <a:pt x="1105" y="2297"/>
                </a:cubicBezTo>
                <a:cubicBezTo>
                  <a:pt x="1102" y="2314"/>
                  <a:pt x="1088" y="2267"/>
                  <a:pt x="1082" y="2251"/>
                </a:cubicBezTo>
                <a:cubicBezTo>
                  <a:pt x="1062" y="2202"/>
                  <a:pt x="1050" y="2147"/>
                  <a:pt x="1024" y="2101"/>
                </a:cubicBezTo>
                <a:cubicBezTo>
                  <a:pt x="1011" y="2077"/>
                  <a:pt x="978" y="2032"/>
                  <a:pt x="978" y="2032"/>
                </a:cubicBezTo>
                <a:cubicBezTo>
                  <a:pt x="954" y="1930"/>
                  <a:pt x="992" y="1846"/>
                  <a:pt x="967" y="1733"/>
                </a:cubicBezTo>
                <a:cubicBezTo>
                  <a:pt x="957" y="1687"/>
                  <a:pt x="877" y="1608"/>
                  <a:pt x="840" y="1583"/>
                </a:cubicBezTo>
                <a:cubicBezTo>
                  <a:pt x="799" y="1521"/>
                  <a:pt x="793" y="1460"/>
                  <a:pt x="782" y="1387"/>
                </a:cubicBezTo>
                <a:cubicBezTo>
                  <a:pt x="787" y="1337"/>
                  <a:pt x="807" y="1224"/>
                  <a:pt x="782" y="1168"/>
                </a:cubicBezTo>
                <a:cubicBezTo>
                  <a:pt x="777" y="1157"/>
                  <a:pt x="759" y="1161"/>
                  <a:pt x="748" y="1157"/>
                </a:cubicBezTo>
                <a:cubicBezTo>
                  <a:pt x="736" y="1165"/>
                  <a:pt x="727" y="1180"/>
                  <a:pt x="713" y="1180"/>
                </a:cubicBezTo>
                <a:cubicBezTo>
                  <a:pt x="697" y="1180"/>
                  <a:pt x="618" y="1085"/>
                  <a:pt x="609" y="1076"/>
                </a:cubicBezTo>
                <a:cubicBezTo>
                  <a:pt x="591" y="1018"/>
                  <a:pt x="566" y="1031"/>
                  <a:pt x="506" y="1018"/>
                </a:cubicBezTo>
                <a:cubicBezTo>
                  <a:pt x="445" y="978"/>
                  <a:pt x="436" y="913"/>
                  <a:pt x="414" y="846"/>
                </a:cubicBezTo>
                <a:cubicBezTo>
                  <a:pt x="406" y="820"/>
                  <a:pt x="356" y="788"/>
                  <a:pt x="356" y="788"/>
                </a:cubicBezTo>
                <a:cubicBezTo>
                  <a:pt x="324" y="920"/>
                  <a:pt x="360" y="726"/>
                  <a:pt x="368" y="696"/>
                </a:cubicBezTo>
                <a:cubicBezTo>
                  <a:pt x="359" y="646"/>
                  <a:pt x="350" y="605"/>
                  <a:pt x="333" y="558"/>
                </a:cubicBezTo>
                <a:cubicBezTo>
                  <a:pt x="337" y="516"/>
                  <a:pt x="336" y="473"/>
                  <a:pt x="345" y="431"/>
                </a:cubicBezTo>
                <a:cubicBezTo>
                  <a:pt x="348" y="417"/>
                  <a:pt x="362" y="409"/>
                  <a:pt x="368" y="396"/>
                </a:cubicBezTo>
                <a:cubicBezTo>
                  <a:pt x="378" y="374"/>
                  <a:pt x="391" y="327"/>
                  <a:pt x="391" y="327"/>
                </a:cubicBezTo>
                <a:cubicBezTo>
                  <a:pt x="369" y="159"/>
                  <a:pt x="398" y="198"/>
                  <a:pt x="183" y="212"/>
                </a:cubicBezTo>
                <a:cubicBezTo>
                  <a:pt x="112" y="194"/>
                  <a:pt x="0" y="199"/>
                  <a:pt x="172" y="177"/>
                </a:cubicBezTo>
                <a:cubicBezTo>
                  <a:pt x="195" y="169"/>
                  <a:pt x="218" y="162"/>
                  <a:pt x="241" y="154"/>
                </a:cubicBezTo>
                <a:cubicBezTo>
                  <a:pt x="254" y="150"/>
                  <a:pt x="254" y="129"/>
                  <a:pt x="264" y="120"/>
                </a:cubicBezTo>
                <a:cubicBezTo>
                  <a:pt x="313" y="78"/>
                  <a:pt x="320" y="78"/>
                  <a:pt x="368" y="62"/>
                </a:cubicBezTo>
                <a:cubicBezTo>
                  <a:pt x="420" y="80"/>
                  <a:pt x="461" y="89"/>
                  <a:pt x="517" y="97"/>
                </a:cubicBezTo>
                <a:cubicBezTo>
                  <a:pt x="560" y="82"/>
                  <a:pt x="588" y="62"/>
                  <a:pt x="633" y="51"/>
                </a:cubicBezTo>
                <a:cubicBezTo>
                  <a:pt x="656" y="59"/>
                  <a:pt x="679" y="66"/>
                  <a:pt x="702" y="74"/>
                </a:cubicBezTo>
                <a:cubicBezTo>
                  <a:pt x="713" y="78"/>
                  <a:pt x="736" y="85"/>
                  <a:pt x="736" y="85"/>
                </a:cubicBezTo>
                <a:cubicBezTo>
                  <a:pt x="732" y="66"/>
                  <a:pt x="711" y="42"/>
                  <a:pt x="725" y="28"/>
                </a:cubicBezTo>
                <a:cubicBezTo>
                  <a:pt x="753" y="0"/>
                  <a:pt x="843" y="23"/>
                  <a:pt x="874" y="28"/>
                </a:cubicBezTo>
                <a:cubicBezTo>
                  <a:pt x="973" y="93"/>
                  <a:pt x="865" y="6"/>
                  <a:pt x="886" y="85"/>
                </a:cubicBezTo>
                <a:cubicBezTo>
                  <a:pt x="889" y="97"/>
                  <a:pt x="909" y="95"/>
                  <a:pt x="921" y="97"/>
                </a:cubicBezTo>
                <a:cubicBezTo>
                  <a:pt x="947" y="102"/>
                  <a:pt x="974" y="104"/>
                  <a:pt x="1001" y="108"/>
                </a:cubicBezTo>
                <a:cubicBezTo>
                  <a:pt x="1115" y="146"/>
                  <a:pt x="1074" y="119"/>
                  <a:pt x="978" y="154"/>
                </a:cubicBezTo>
                <a:cubicBezTo>
                  <a:pt x="965" y="159"/>
                  <a:pt x="955" y="169"/>
                  <a:pt x="944" y="177"/>
                </a:cubicBezTo>
                <a:cubicBezTo>
                  <a:pt x="931" y="215"/>
                  <a:pt x="910" y="243"/>
                  <a:pt x="897" y="281"/>
                </a:cubicBezTo>
                <a:cubicBezTo>
                  <a:pt x="905" y="293"/>
                  <a:pt x="909" y="308"/>
                  <a:pt x="921" y="316"/>
                </a:cubicBezTo>
                <a:cubicBezTo>
                  <a:pt x="988" y="360"/>
                  <a:pt x="955" y="288"/>
                  <a:pt x="978" y="362"/>
                </a:cubicBezTo>
                <a:cubicBezTo>
                  <a:pt x="993" y="358"/>
                  <a:pt x="1018" y="365"/>
                  <a:pt x="1024" y="350"/>
                </a:cubicBezTo>
                <a:cubicBezTo>
                  <a:pt x="1033" y="327"/>
                  <a:pt x="995" y="264"/>
                  <a:pt x="1024" y="235"/>
                </a:cubicBezTo>
                <a:cubicBezTo>
                  <a:pt x="1062" y="196"/>
                  <a:pt x="1085" y="192"/>
                  <a:pt x="1128" y="177"/>
                </a:cubicBezTo>
                <a:cubicBezTo>
                  <a:pt x="1159" y="219"/>
                  <a:pt x="1177" y="253"/>
                  <a:pt x="1220" y="281"/>
                </a:cubicBezTo>
                <a:cubicBezTo>
                  <a:pt x="1252" y="330"/>
                  <a:pt x="1285" y="368"/>
                  <a:pt x="1255" y="442"/>
                </a:cubicBezTo>
                <a:cubicBezTo>
                  <a:pt x="1248" y="460"/>
                  <a:pt x="1216" y="435"/>
                  <a:pt x="1197" y="431"/>
                </a:cubicBezTo>
                <a:cubicBezTo>
                  <a:pt x="1185" y="423"/>
                  <a:pt x="1176" y="405"/>
                  <a:pt x="1162" y="408"/>
                </a:cubicBezTo>
                <a:cubicBezTo>
                  <a:pt x="1120" y="416"/>
                  <a:pt x="1146" y="462"/>
                  <a:pt x="1151" y="477"/>
                </a:cubicBezTo>
                <a:cubicBezTo>
                  <a:pt x="1122" y="498"/>
                  <a:pt x="1102" y="530"/>
                  <a:pt x="1070" y="546"/>
                </a:cubicBezTo>
                <a:cubicBezTo>
                  <a:pt x="1042" y="560"/>
                  <a:pt x="1008" y="560"/>
                  <a:pt x="978" y="569"/>
                </a:cubicBezTo>
                <a:cubicBezTo>
                  <a:pt x="967" y="577"/>
                  <a:pt x="953" y="581"/>
                  <a:pt x="944" y="592"/>
                </a:cubicBezTo>
                <a:cubicBezTo>
                  <a:pt x="911" y="633"/>
                  <a:pt x="932" y="705"/>
                  <a:pt x="886" y="742"/>
                </a:cubicBezTo>
                <a:cubicBezTo>
                  <a:pt x="861" y="762"/>
                  <a:pt x="825" y="758"/>
                  <a:pt x="794" y="765"/>
                </a:cubicBezTo>
                <a:cubicBezTo>
                  <a:pt x="798" y="776"/>
                  <a:pt x="805" y="787"/>
                  <a:pt x="805" y="799"/>
                </a:cubicBezTo>
                <a:cubicBezTo>
                  <a:pt x="805" y="874"/>
                  <a:pt x="739" y="805"/>
                  <a:pt x="713" y="788"/>
                </a:cubicBezTo>
                <a:cubicBezTo>
                  <a:pt x="686" y="792"/>
                  <a:pt x="656" y="785"/>
                  <a:pt x="633" y="799"/>
                </a:cubicBezTo>
                <a:cubicBezTo>
                  <a:pt x="609" y="814"/>
                  <a:pt x="609" y="853"/>
                  <a:pt x="586" y="869"/>
                </a:cubicBezTo>
                <a:cubicBezTo>
                  <a:pt x="575" y="877"/>
                  <a:pt x="563" y="884"/>
                  <a:pt x="552" y="892"/>
                </a:cubicBezTo>
                <a:cubicBezTo>
                  <a:pt x="556" y="911"/>
                  <a:pt x="546" y="940"/>
                  <a:pt x="563" y="949"/>
                </a:cubicBezTo>
                <a:cubicBezTo>
                  <a:pt x="655" y="995"/>
                  <a:pt x="671" y="974"/>
                  <a:pt x="725" y="938"/>
                </a:cubicBezTo>
                <a:cubicBezTo>
                  <a:pt x="717" y="953"/>
                  <a:pt x="713" y="971"/>
                  <a:pt x="702" y="984"/>
                </a:cubicBezTo>
                <a:cubicBezTo>
                  <a:pt x="693" y="995"/>
                  <a:pt x="670" y="993"/>
                  <a:pt x="667" y="1007"/>
                </a:cubicBezTo>
                <a:cubicBezTo>
                  <a:pt x="660" y="1039"/>
                  <a:pt x="710" y="1048"/>
                  <a:pt x="725" y="1053"/>
                </a:cubicBezTo>
                <a:cubicBezTo>
                  <a:pt x="748" y="1088"/>
                  <a:pt x="759" y="1122"/>
                  <a:pt x="782" y="1157"/>
                </a:cubicBezTo>
                <a:cubicBezTo>
                  <a:pt x="805" y="1149"/>
                  <a:pt x="828" y="1142"/>
                  <a:pt x="851" y="1134"/>
                </a:cubicBezTo>
                <a:cubicBezTo>
                  <a:pt x="863" y="1130"/>
                  <a:pt x="886" y="1122"/>
                  <a:pt x="886" y="1122"/>
                </a:cubicBezTo>
                <a:cubicBezTo>
                  <a:pt x="948" y="1135"/>
                  <a:pt x="944" y="1154"/>
                  <a:pt x="944" y="1122"/>
                </a:cubicBezTo>
                <a:close/>
              </a:path>
            </a:pathLst>
          </a:custGeom>
          <a:solidFill>
            <a:srgbClr val="ffcc00"/>
          </a:solidFill>
          <a:ln w="57240">
            <a:solidFill>
              <a:srgbClr val="ffcc00"/>
            </a:solidFill>
            <a:round/>
          </a:ln>
          <a:effectLst>
            <a:outerShdw dist="36147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62120" y="2457360"/>
            <a:ext cx="463680" cy="255600"/>
          </a:xfrm>
          <a:custGeom>
            <a:avLst/>
            <a:gdLst/>
            <a:ahLst/>
            <a:rect l="l" t="t" r="r" b="b"/>
            <a:pathLst>
              <a:path w="292" h="161">
                <a:moveTo>
                  <a:pt x="23" y="23"/>
                </a:moveTo>
                <a:cubicBezTo>
                  <a:pt x="35" y="27"/>
                  <a:pt x="48" y="27"/>
                  <a:pt x="58" y="35"/>
                </a:cubicBezTo>
                <a:cubicBezTo>
                  <a:pt x="69" y="44"/>
                  <a:pt x="75" y="81"/>
                  <a:pt x="81" y="69"/>
                </a:cubicBezTo>
                <a:cubicBezTo>
                  <a:pt x="107" y="15"/>
                  <a:pt x="62" y="10"/>
                  <a:pt x="35" y="0"/>
                </a:cubicBezTo>
                <a:cubicBezTo>
                  <a:pt x="23" y="4"/>
                  <a:pt x="0" y="0"/>
                  <a:pt x="0" y="12"/>
                </a:cubicBezTo>
                <a:cubicBezTo>
                  <a:pt x="0" y="22"/>
                  <a:pt x="80" y="81"/>
                  <a:pt x="81" y="81"/>
                </a:cubicBezTo>
                <a:cubicBezTo>
                  <a:pt x="110" y="91"/>
                  <a:pt x="142" y="88"/>
                  <a:pt x="173" y="92"/>
                </a:cubicBezTo>
                <a:cubicBezTo>
                  <a:pt x="158" y="96"/>
                  <a:pt x="138" y="115"/>
                  <a:pt x="127" y="104"/>
                </a:cubicBezTo>
                <a:cubicBezTo>
                  <a:pt x="117" y="94"/>
                  <a:pt x="148" y="83"/>
                  <a:pt x="162" y="81"/>
                </a:cubicBezTo>
                <a:cubicBezTo>
                  <a:pt x="178" y="79"/>
                  <a:pt x="193" y="88"/>
                  <a:pt x="208" y="92"/>
                </a:cubicBezTo>
                <a:cubicBezTo>
                  <a:pt x="219" y="104"/>
                  <a:pt x="232" y="114"/>
                  <a:pt x="242" y="127"/>
                </a:cubicBezTo>
                <a:cubicBezTo>
                  <a:pt x="251" y="138"/>
                  <a:pt x="251" y="161"/>
                  <a:pt x="265" y="161"/>
                </a:cubicBezTo>
                <a:cubicBezTo>
                  <a:pt x="292" y="161"/>
                  <a:pt x="244" y="117"/>
                  <a:pt x="242" y="115"/>
                </a:cubicBezTo>
              </a:path>
            </a:pathLst>
          </a:custGeom>
          <a:solidFill>
            <a:srgbClr val="ffcc00"/>
          </a:solidFill>
          <a:ln w="57240">
            <a:solidFill>
              <a:srgbClr val="ffcc00"/>
            </a:solidFill>
            <a:round/>
          </a:ln>
          <a:effectLst>
            <a:outerShdw dist="36147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27440" y="2046240"/>
            <a:ext cx="1338120" cy="473040"/>
          </a:xfrm>
          <a:custGeom>
            <a:avLst/>
            <a:gdLst/>
            <a:ahLst/>
            <a:rect l="l" t="t" r="r" b="b"/>
            <a:pathLst>
              <a:path w="843" h="298">
                <a:moveTo>
                  <a:pt x="843" y="0"/>
                </a:moveTo>
                <a:cubicBezTo>
                  <a:pt x="813" y="114"/>
                  <a:pt x="738" y="114"/>
                  <a:pt x="640" y="128"/>
                </a:cubicBezTo>
                <a:cubicBezTo>
                  <a:pt x="460" y="187"/>
                  <a:pt x="306" y="185"/>
                  <a:pt x="107" y="192"/>
                </a:cubicBezTo>
                <a:cubicBezTo>
                  <a:pt x="96" y="195"/>
                  <a:pt x="83" y="194"/>
                  <a:pt x="75" y="202"/>
                </a:cubicBezTo>
                <a:cubicBezTo>
                  <a:pt x="67" y="210"/>
                  <a:pt x="70" y="224"/>
                  <a:pt x="64" y="234"/>
                </a:cubicBezTo>
                <a:cubicBezTo>
                  <a:pt x="47" y="263"/>
                  <a:pt x="16" y="268"/>
                  <a:pt x="0" y="298"/>
                </a:cubicBezTo>
              </a:path>
            </a:pathLst>
          </a:custGeom>
          <a:noFill/>
          <a:ln w="28440">
            <a:solidFill>
              <a:srgbClr val="cc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13120" y="2090880"/>
            <a:ext cx="1168200" cy="482400"/>
          </a:xfrm>
          <a:custGeom>
            <a:avLst/>
            <a:gdLst/>
            <a:ahLst/>
            <a:rect l="l" t="t" r="r" b="b"/>
            <a:pathLst>
              <a:path w="736" h="304">
                <a:moveTo>
                  <a:pt x="0" y="281"/>
                </a:moveTo>
                <a:cubicBezTo>
                  <a:pt x="35" y="277"/>
                  <a:pt x="72" y="279"/>
                  <a:pt x="106" y="270"/>
                </a:cubicBezTo>
                <a:cubicBezTo>
                  <a:pt x="134" y="263"/>
                  <a:pt x="127" y="235"/>
                  <a:pt x="138" y="217"/>
                </a:cubicBezTo>
                <a:cubicBezTo>
                  <a:pt x="204" y="108"/>
                  <a:pt x="111" y="304"/>
                  <a:pt x="181" y="164"/>
                </a:cubicBezTo>
                <a:cubicBezTo>
                  <a:pt x="194" y="138"/>
                  <a:pt x="203" y="92"/>
                  <a:pt x="234" y="78"/>
                </a:cubicBezTo>
                <a:cubicBezTo>
                  <a:pt x="312" y="43"/>
                  <a:pt x="396" y="34"/>
                  <a:pt x="480" y="25"/>
                </a:cubicBezTo>
                <a:cubicBezTo>
                  <a:pt x="576" y="0"/>
                  <a:pt x="618" y="4"/>
                  <a:pt x="736" y="4"/>
                </a:cubicBezTo>
              </a:path>
            </a:pathLst>
          </a:custGeom>
          <a:noFill/>
          <a:ln w="28440">
            <a:solidFill>
              <a:srgbClr val="cc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27520" y="2011320"/>
            <a:ext cx="1353960" cy="2266920"/>
          </a:xfrm>
          <a:custGeom>
            <a:avLst/>
            <a:gdLst/>
            <a:ahLst/>
            <a:rect l="l" t="t" r="r" b="b"/>
            <a:pathLst>
              <a:path w="853" h="1428">
                <a:moveTo>
                  <a:pt x="192" y="0"/>
                </a:moveTo>
                <a:cubicBezTo>
                  <a:pt x="179" y="51"/>
                  <a:pt x="167" y="69"/>
                  <a:pt x="117" y="86"/>
                </a:cubicBezTo>
                <a:cubicBezTo>
                  <a:pt x="97" y="117"/>
                  <a:pt x="73" y="140"/>
                  <a:pt x="53" y="171"/>
                </a:cubicBezTo>
                <a:cubicBezTo>
                  <a:pt x="44" y="224"/>
                  <a:pt x="37" y="279"/>
                  <a:pt x="21" y="331"/>
                </a:cubicBezTo>
                <a:cubicBezTo>
                  <a:pt x="15" y="353"/>
                  <a:pt x="0" y="395"/>
                  <a:pt x="0" y="395"/>
                </a:cubicBezTo>
                <a:cubicBezTo>
                  <a:pt x="3" y="463"/>
                  <a:pt x="4" y="531"/>
                  <a:pt x="10" y="598"/>
                </a:cubicBezTo>
                <a:cubicBezTo>
                  <a:pt x="21" y="723"/>
                  <a:pt x="199" y="696"/>
                  <a:pt x="288" y="726"/>
                </a:cubicBezTo>
                <a:cubicBezTo>
                  <a:pt x="307" y="756"/>
                  <a:pt x="312" y="756"/>
                  <a:pt x="320" y="790"/>
                </a:cubicBezTo>
                <a:cubicBezTo>
                  <a:pt x="324" y="807"/>
                  <a:pt x="318" y="829"/>
                  <a:pt x="330" y="843"/>
                </a:cubicBezTo>
                <a:cubicBezTo>
                  <a:pt x="346" y="861"/>
                  <a:pt x="373" y="864"/>
                  <a:pt x="394" y="875"/>
                </a:cubicBezTo>
                <a:cubicBezTo>
                  <a:pt x="401" y="900"/>
                  <a:pt x="402" y="928"/>
                  <a:pt x="416" y="950"/>
                </a:cubicBezTo>
                <a:cubicBezTo>
                  <a:pt x="425" y="963"/>
                  <a:pt x="454" y="956"/>
                  <a:pt x="458" y="971"/>
                </a:cubicBezTo>
                <a:cubicBezTo>
                  <a:pt x="473" y="1022"/>
                  <a:pt x="461" y="1078"/>
                  <a:pt x="469" y="1131"/>
                </a:cubicBezTo>
                <a:cubicBezTo>
                  <a:pt x="475" y="1174"/>
                  <a:pt x="536" y="1272"/>
                  <a:pt x="565" y="1302"/>
                </a:cubicBezTo>
                <a:cubicBezTo>
                  <a:pt x="568" y="1314"/>
                  <a:pt x="581" y="1384"/>
                  <a:pt x="586" y="1387"/>
                </a:cubicBezTo>
                <a:cubicBezTo>
                  <a:pt x="597" y="1393"/>
                  <a:pt x="700" y="1414"/>
                  <a:pt x="725" y="1419"/>
                </a:cubicBezTo>
                <a:cubicBezTo>
                  <a:pt x="817" y="1403"/>
                  <a:pt x="768" y="1428"/>
                  <a:pt x="810" y="1376"/>
                </a:cubicBezTo>
                <a:cubicBezTo>
                  <a:pt x="816" y="1368"/>
                  <a:pt x="826" y="1363"/>
                  <a:pt x="832" y="1355"/>
                </a:cubicBezTo>
                <a:cubicBezTo>
                  <a:pt x="840" y="1345"/>
                  <a:pt x="853" y="1323"/>
                  <a:pt x="853" y="1323"/>
                </a:cubicBezTo>
              </a:path>
            </a:pathLst>
          </a:custGeom>
          <a:noFill/>
          <a:ln w="28440">
            <a:solidFill>
              <a:srgbClr val="0000ff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2079720"/>
            <a:ext cx="1279440" cy="2212920"/>
          </a:xfrm>
          <a:custGeom>
            <a:avLst/>
            <a:gdLst/>
            <a:ahLst/>
            <a:rect l="l" t="t" r="r" b="b"/>
            <a:pathLst>
              <a:path w="806" h="1394">
                <a:moveTo>
                  <a:pt x="262" y="0"/>
                </a:moveTo>
                <a:cubicBezTo>
                  <a:pt x="239" y="35"/>
                  <a:pt x="222" y="52"/>
                  <a:pt x="187" y="75"/>
                </a:cubicBezTo>
                <a:cubicBezTo>
                  <a:pt x="167" y="106"/>
                  <a:pt x="153" y="138"/>
                  <a:pt x="123" y="160"/>
                </a:cubicBezTo>
                <a:cubicBezTo>
                  <a:pt x="102" y="175"/>
                  <a:pt x="59" y="203"/>
                  <a:pt x="59" y="203"/>
                </a:cubicBezTo>
                <a:cubicBezTo>
                  <a:pt x="36" y="237"/>
                  <a:pt x="19" y="271"/>
                  <a:pt x="6" y="310"/>
                </a:cubicBezTo>
                <a:cubicBezTo>
                  <a:pt x="17" y="413"/>
                  <a:pt x="0" y="413"/>
                  <a:pt x="70" y="459"/>
                </a:cubicBezTo>
                <a:cubicBezTo>
                  <a:pt x="74" y="470"/>
                  <a:pt x="74" y="482"/>
                  <a:pt x="81" y="491"/>
                </a:cubicBezTo>
                <a:cubicBezTo>
                  <a:pt x="89" y="501"/>
                  <a:pt x="112" y="499"/>
                  <a:pt x="113" y="512"/>
                </a:cubicBezTo>
                <a:cubicBezTo>
                  <a:pt x="129" y="665"/>
                  <a:pt x="130" y="652"/>
                  <a:pt x="81" y="726"/>
                </a:cubicBezTo>
                <a:cubicBezTo>
                  <a:pt x="91" y="801"/>
                  <a:pt x="105" y="877"/>
                  <a:pt x="123" y="950"/>
                </a:cubicBezTo>
                <a:cubicBezTo>
                  <a:pt x="126" y="963"/>
                  <a:pt x="157" y="1049"/>
                  <a:pt x="166" y="1056"/>
                </a:cubicBezTo>
                <a:cubicBezTo>
                  <a:pt x="178" y="1065"/>
                  <a:pt x="195" y="1063"/>
                  <a:pt x="209" y="1067"/>
                </a:cubicBezTo>
                <a:cubicBezTo>
                  <a:pt x="253" y="1097"/>
                  <a:pt x="288" y="1125"/>
                  <a:pt x="337" y="1142"/>
                </a:cubicBezTo>
                <a:cubicBezTo>
                  <a:pt x="362" y="1180"/>
                  <a:pt x="394" y="1211"/>
                  <a:pt x="422" y="1248"/>
                </a:cubicBezTo>
                <a:cubicBezTo>
                  <a:pt x="426" y="1273"/>
                  <a:pt x="410" y="1312"/>
                  <a:pt x="433" y="1323"/>
                </a:cubicBezTo>
                <a:cubicBezTo>
                  <a:pt x="581" y="1394"/>
                  <a:pt x="669" y="1387"/>
                  <a:pt x="806" y="1387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64200" y="2824200"/>
            <a:ext cx="880920" cy="1270080"/>
          </a:xfrm>
          <a:custGeom>
            <a:avLst/>
            <a:gdLst/>
            <a:ahLst/>
            <a:rect l="l" t="t" r="r" b="b"/>
            <a:pathLst>
              <a:path w="555" h="800">
                <a:moveTo>
                  <a:pt x="0" y="800"/>
                </a:moveTo>
                <a:cubicBezTo>
                  <a:pt x="14" y="761"/>
                  <a:pt x="27" y="671"/>
                  <a:pt x="64" y="640"/>
                </a:cubicBezTo>
                <a:cubicBezTo>
                  <a:pt x="86" y="622"/>
                  <a:pt x="115" y="614"/>
                  <a:pt x="139" y="598"/>
                </a:cubicBezTo>
                <a:cubicBezTo>
                  <a:pt x="169" y="509"/>
                  <a:pt x="139" y="606"/>
                  <a:pt x="160" y="406"/>
                </a:cubicBezTo>
                <a:cubicBezTo>
                  <a:pt x="165" y="354"/>
                  <a:pt x="203" y="313"/>
                  <a:pt x="224" y="267"/>
                </a:cubicBezTo>
                <a:cubicBezTo>
                  <a:pt x="246" y="218"/>
                  <a:pt x="241" y="185"/>
                  <a:pt x="278" y="150"/>
                </a:cubicBezTo>
                <a:cubicBezTo>
                  <a:pt x="285" y="129"/>
                  <a:pt x="292" y="107"/>
                  <a:pt x="299" y="86"/>
                </a:cubicBezTo>
                <a:cubicBezTo>
                  <a:pt x="303" y="74"/>
                  <a:pt x="319" y="69"/>
                  <a:pt x="331" y="64"/>
                </a:cubicBezTo>
                <a:cubicBezTo>
                  <a:pt x="395" y="35"/>
                  <a:pt x="427" y="40"/>
                  <a:pt x="502" y="32"/>
                </a:cubicBezTo>
                <a:cubicBezTo>
                  <a:pt x="513" y="29"/>
                  <a:pt x="524" y="28"/>
                  <a:pt x="534" y="22"/>
                </a:cubicBezTo>
                <a:cubicBezTo>
                  <a:pt x="543" y="17"/>
                  <a:pt x="555" y="0"/>
                  <a:pt x="555" y="0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57840" y="2744640"/>
            <a:ext cx="287280" cy="536760"/>
          </a:xfrm>
          <a:custGeom>
            <a:avLst/>
            <a:gdLst/>
            <a:ahLst/>
            <a:rect l="l" t="t" r="r" b="b"/>
            <a:pathLst>
              <a:path w="181" h="338">
                <a:moveTo>
                  <a:pt x="181" y="29"/>
                </a:moveTo>
                <a:cubicBezTo>
                  <a:pt x="136" y="17"/>
                  <a:pt x="90" y="0"/>
                  <a:pt x="42" y="29"/>
                </a:cubicBezTo>
                <a:cubicBezTo>
                  <a:pt x="27" y="38"/>
                  <a:pt x="36" y="65"/>
                  <a:pt x="32" y="82"/>
                </a:cubicBezTo>
                <a:cubicBezTo>
                  <a:pt x="29" y="93"/>
                  <a:pt x="25" y="103"/>
                  <a:pt x="21" y="114"/>
                </a:cubicBezTo>
                <a:cubicBezTo>
                  <a:pt x="10" y="333"/>
                  <a:pt x="61" y="277"/>
                  <a:pt x="0" y="338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8200" y="2192400"/>
            <a:ext cx="3556080" cy="2793960"/>
          </a:xfrm>
          <a:custGeom>
            <a:avLst/>
            <a:gdLst/>
            <a:ahLst/>
            <a:rect l="l" t="t" r="r" b="b"/>
            <a:pathLst>
              <a:path w="2240" h="1760">
                <a:moveTo>
                  <a:pt x="2240" y="0"/>
                </a:moveTo>
                <a:cubicBezTo>
                  <a:pt x="2213" y="28"/>
                  <a:pt x="2198" y="53"/>
                  <a:pt x="2165" y="75"/>
                </a:cubicBezTo>
                <a:cubicBezTo>
                  <a:pt x="2127" y="132"/>
                  <a:pt x="2062" y="203"/>
                  <a:pt x="1995" y="224"/>
                </a:cubicBezTo>
                <a:cubicBezTo>
                  <a:pt x="1948" y="271"/>
                  <a:pt x="1953" y="344"/>
                  <a:pt x="1941" y="406"/>
                </a:cubicBezTo>
                <a:cubicBezTo>
                  <a:pt x="1929" y="468"/>
                  <a:pt x="1913" y="535"/>
                  <a:pt x="1877" y="587"/>
                </a:cubicBezTo>
                <a:cubicBezTo>
                  <a:pt x="1833" y="727"/>
                  <a:pt x="1956" y="917"/>
                  <a:pt x="1824" y="1003"/>
                </a:cubicBezTo>
                <a:cubicBezTo>
                  <a:pt x="1821" y="1064"/>
                  <a:pt x="1848" y="1257"/>
                  <a:pt x="1749" y="1291"/>
                </a:cubicBezTo>
                <a:cubicBezTo>
                  <a:pt x="1728" y="1312"/>
                  <a:pt x="1708" y="1328"/>
                  <a:pt x="1696" y="1355"/>
                </a:cubicBezTo>
                <a:cubicBezTo>
                  <a:pt x="1676" y="1400"/>
                  <a:pt x="1678" y="1462"/>
                  <a:pt x="1653" y="1504"/>
                </a:cubicBezTo>
                <a:cubicBezTo>
                  <a:pt x="1634" y="1535"/>
                  <a:pt x="1613" y="1553"/>
                  <a:pt x="1600" y="1590"/>
                </a:cubicBezTo>
                <a:cubicBezTo>
                  <a:pt x="1596" y="1625"/>
                  <a:pt x="1613" y="1670"/>
                  <a:pt x="1589" y="1696"/>
                </a:cubicBezTo>
                <a:cubicBezTo>
                  <a:pt x="1567" y="1720"/>
                  <a:pt x="1523" y="1696"/>
                  <a:pt x="1493" y="1707"/>
                </a:cubicBezTo>
                <a:cubicBezTo>
                  <a:pt x="1481" y="1711"/>
                  <a:pt x="1483" y="1732"/>
                  <a:pt x="1472" y="1739"/>
                </a:cubicBezTo>
                <a:cubicBezTo>
                  <a:pt x="1453" y="1751"/>
                  <a:pt x="1408" y="1760"/>
                  <a:pt x="1408" y="1760"/>
                </a:cubicBezTo>
                <a:cubicBezTo>
                  <a:pt x="1390" y="1757"/>
                  <a:pt x="1372" y="1756"/>
                  <a:pt x="1355" y="1750"/>
                </a:cubicBezTo>
                <a:cubicBezTo>
                  <a:pt x="1320" y="1737"/>
                  <a:pt x="1303" y="1697"/>
                  <a:pt x="1269" y="1675"/>
                </a:cubicBezTo>
                <a:cubicBezTo>
                  <a:pt x="1261" y="1652"/>
                  <a:pt x="1250" y="1600"/>
                  <a:pt x="1227" y="1579"/>
                </a:cubicBezTo>
                <a:cubicBezTo>
                  <a:pt x="1143" y="1505"/>
                  <a:pt x="1033" y="1518"/>
                  <a:pt x="928" y="1504"/>
                </a:cubicBezTo>
                <a:cubicBezTo>
                  <a:pt x="869" y="1415"/>
                  <a:pt x="947" y="1518"/>
                  <a:pt x="875" y="1462"/>
                </a:cubicBezTo>
                <a:cubicBezTo>
                  <a:pt x="865" y="1454"/>
                  <a:pt x="863" y="1438"/>
                  <a:pt x="853" y="1430"/>
                </a:cubicBezTo>
                <a:cubicBezTo>
                  <a:pt x="818" y="1401"/>
                  <a:pt x="790" y="1406"/>
                  <a:pt x="747" y="1398"/>
                </a:cubicBezTo>
                <a:cubicBezTo>
                  <a:pt x="732" y="1395"/>
                  <a:pt x="718" y="1392"/>
                  <a:pt x="704" y="1387"/>
                </a:cubicBezTo>
                <a:cubicBezTo>
                  <a:pt x="689" y="1381"/>
                  <a:pt x="676" y="1370"/>
                  <a:pt x="661" y="1366"/>
                </a:cubicBezTo>
                <a:cubicBezTo>
                  <a:pt x="633" y="1359"/>
                  <a:pt x="604" y="1359"/>
                  <a:pt x="576" y="1355"/>
                </a:cubicBezTo>
                <a:cubicBezTo>
                  <a:pt x="430" y="1359"/>
                  <a:pt x="284" y="1357"/>
                  <a:pt x="139" y="1366"/>
                </a:cubicBezTo>
                <a:cubicBezTo>
                  <a:pt x="102" y="1368"/>
                  <a:pt x="68" y="1388"/>
                  <a:pt x="32" y="1398"/>
                </a:cubicBezTo>
                <a:cubicBezTo>
                  <a:pt x="21" y="1401"/>
                  <a:pt x="0" y="1408"/>
                  <a:pt x="0" y="1408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1916280"/>
            <a:ext cx="5041800" cy="2376360"/>
          </a:xfrm>
          <a:custGeom>
            <a:avLst/>
            <a:gdLst/>
            <a:ahLst/>
            <a:rect l="l" t="t" r="r" b="b"/>
            <a:pathLst>
              <a:path w="3133" h="1414">
                <a:moveTo>
                  <a:pt x="3133" y="1298"/>
                </a:moveTo>
                <a:cubicBezTo>
                  <a:pt x="3112" y="1294"/>
                  <a:pt x="3080" y="1305"/>
                  <a:pt x="3069" y="1287"/>
                </a:cubicBezTo>
                <a:cubicBezTo>
                  <a:pt x="3031" y="1225"/>
                  <a:pt x="3060" y="1131"/>
                  <a:pt x="3026" y="1063"/>
                </a:cubicBezTo>
                <a:cubicBezTo>
                  <a:pt x="2988" y="987"/>
                  <a:pt x="2879" y="957"/>
                  <a:pt x="2813" y="914"/>
                </a:cubicBezTo>
                <a:cubicBezTo>
                  <a:pt x="2807" y="905"/>
                  <a:pt x="2785" y="866"/>
                  <a:pt x="2770" y="861"/>
                </a:cubicBezTo>
                <a:cubicBezTo>
                  <a:pt x="2699" y="837"/>
                  <a:pt x="2601" y="831"/>
                  <a:pt x="2525" y="818"/>
                </a:cubicBezTo>
                <a:cubicBezTo>
                  <a:pt x="2508" y="792"/>
                  <a:pt x="2497" y="741"/>
                  <a:pt x="2472" y="722"/>
                </a:cubicBezTo>
                <a:cubicBezTo>
                  <a:pt x="2458" y="711"/>
                  <a:pt x="2359" y="645"/>
                  <a:pt x="2333" y="637"/>
                </a:cubicBezTo>
                <a:cubicBezTo>
                  <a:pt x="2257" y="643"/>
                  <a:pt x="2208" y="646"/>
                  <a:pt x="2141" y="669"/>
                </a:cubicBezTo>
                <a:cubicBezTo>
                  <a:pt x="2060" y="793"/>
                  <a:pt x="2191" y="924"/>
                  <a:pt x="2034" y="978"/>
                </a:cubicBezTo>
                <a:cubicBezTo>
                  <a:pt x="1955" y="1057"/>
                  <a:pt x="1910" y="1060"/>
                  <a:pt x="1800" y="1074"/>
                </a:cubicBezTo>
                <a:cubicBezTo>
                  <a:pt x="1732" y="1096"/>
                  <a:pt x="1692" y="1117"/>
                  <a:pt x="1618" y="1127"/>
                </a:cubicBezTo>
                <a:cubicBezTo>
                  <a:pt x="1576" y="1141"/>
                  <a:pt x="1551" y="1172"/>
                  <a:pt x="1512" y="1191"/>
                </a:cubicBezTo>
                <a:cubicBezTo>
                  <a:pt x="1406" y="1244"/>
                  <a:pt x="1255" y="1240"/>
                  <a:pt x="1149" y="1245"/>
                </a:cubicBezTo>
                <a:cubicBezTo>
                  <a:pt x="1072" y="1263"/>
                  <a:pt x="992" y="1266"/>
                  <a:pt x="914" y="1277"/>
                </a:cubicBezTo>
                <a:cubicBezTo>
                  <a:pt x="879" y="1288"/>
                  <a:pt x="843" y="1297"/>
                  <a:pt x="808" y="1309"/>
                </a:cubicBezTo>
                <a:cubicBezTo>
                  <a:pt x="795" y="1321"/>
                  <a:pt x="746" y="1367"/>
                  <a:pt x="733" y="1373"/>
                </a:cubicBezTo>
                <a:cubicBezTo>
                  <a:pt x="713" y="1383"/>
                  <a:pt x="669" y="1394"/>
                  <a:pt x="669" y="1394"/>
                </a:cubicBezTo>
                <a:cubicBezTo>
                  <a:pt x="581" y="1388"/>
                  <a:pt x="498" y="1414"/>
                  <a:pt x="456" y="1330"/>
                </a:cubicBezTo>
                <a:cubicBezTo>
                  <a:pt x="434" y="1286"/>
                  <a:pt x="429" y="1228"/>
                  <a:pt x="413" y="1181"/>
                </a:cubicBezTo>
                <a:cubicBezTo>
                  <a:pt x="409" y="1170"/>
                  <a:pt x="406" y="1160"/>
                  <a:pt x="402" y="1149"/>
                </a:cubicBezTo>
                <a:cubicBezTo>
                  <a:pt x="399" y="1138"/>
                  <a:pt x="395" y="1128"/>
                  <a:pt x="392" y="1117"/>
                </a:cubicBezTo>
                <a:cubicBezTo>
                  <a:pt x="388" y="1106"/>
                  <a:pt x="381" y="1085"/>
                  <a:pt x="381" y="1085"/>
                </a:cubicBezTo>
                <a:cubicBezTo>
                  <a:pt x="377" y="1024"/>
                  <a:pt x="383" y="962"/>
                  <a:pt x="370" y="903"/>
                </a:cubicBezTo>
                <a:cubicBezTo>
                  <a:pt x="368" y="892"/>
                  <a:pt x="348" y="897"/>
                  <a:pt x="338" y="893"/>
                </a:cubicBezTo>
                <a:cubicBezTo>
                  <a:pt x="218" y="840"/>
                  <a:pt x="330" y="866"/>
                  <a:pt x="146" y="850"/>
                </a:cubicBezTo>
                <a:cubicBezTo>
                  <a:pt x="143" y="807"/>
                  <a:pt x="146" y="764"/>
                  <a:pt x="136" y="722"/>
                </a:cubicBezTo>
                <a:cubicBezTo>
                  <a:pt x="132" y="705"/>
                  <a:pt x="113" y="694"/>
                  <a:pt x="104" y="679"/>
                </a:cubicBezTo>
                <a:cubicBezTo>
                  <a:pt x="78" y="634"/>
                  <a:pt x="74" y="592"/>
                  <a:pt x="29" y="562"/>
                </a:cubicBezTo>
                <a:cubicBezTo>
                  <a:pt x="1" y="481"/>
                  <a:pt x="0" y="378"/>
                  <a:pt x="18" y="295"/>
                </a:cubicBezTo>
                <a:cubicBezTo>
                  <a:pt x="26" y="260"/>
                  <a:pt x="104" y="231"/>
                  <a:pt x="104" y="231"/>
                </a:cubicBezTo>
                <a:cubicBezTo>
                  <a:pt x="139" y="177"/>
                  <a:pt x="137" y="151"/>
                  <a:pt x="146" y="82"/>
                </a:cubicBezTo>
                <a:cubicBezTo>
                  <a:pt x="157" y="0"/>
                  <a:pt x="132" y="7"/>
                  <a:pt x="178" y="7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62320" y="177336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</a:rPr>
              <a:t>1492-1493</a:t>
            </a:r>
            <a:r>
              <a:rPr b="1" lang="zh-CN" sz="2000" spc="-1" strike="noStrike">
                <a:solidFill>
                  <a:srgbClr val="cc0099"/>
                </a:solidFill>
                <a:latin typeface="Times New Roman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31464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487-1488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24606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1498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4365720"/>
            <a:ext cx="2209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华文中宋"/>
                <a:ea typeface="华文中宋"/>
              </a:rPr>
              <a:t>1519-1522</a:t>
            </a:r>
            <a:r>
              <a:rPr b="1" lang="zh-CN" sz="2000" spc="-1" strike="noStrike">
                <a:solidFill>
                  <a:srgbClr val="ff5050"/>
                </a:solidFill>
                <a:latin typeface="华文中宋"/>
                <a:ea typeface="华文中宋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4640" y="2384280"/>
            <a:ext cx="911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太     平     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8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05320" y="32227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3908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0120" y="26892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太平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35640" y="34304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印度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19270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</a:rPr>
              <a:t>亚  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15462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</a:rPr>
              <a:t>欧  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25369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</a:rPr>
              <a:t>非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04000" y="3679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</a:rPr>
              <a:t>大洋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14698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</a:rPr>
              <a:t>北美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788000" y="4078440"/>
            <a:ext cx="1295280" cy="398880"/>
            <a:chOff x="4788000" y="4078440"/>
            <a:chExt cx="1295280" cy="398880"/>
          </a:xfrm>
        </p:grpSpPr>
        <p:sp>
          <p:nvSpPr>
            <p:cNvPr id="130" name=""/>
            <p:cNvSpPr/>
            <p:nvPr/>
          </p:nvSpPr>
          <p:spPr>
            <a:xfrm>
              <a:off x="4864320" y="407844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88000" y="407844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好望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716360" y="3933720"/>
            <a:ext cx="455760" cy="576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292720" y="1628640"/>
            <a:ext cx="1655640" cy="520920"/>
          </a:xfrm>
          <a:prstGeom prst="wedgeRectCallout">
            <a:avLst>
              <a:gd name="adj1" fmla="val -4268"/>
              <a:gd name="adj2" fmla="val 15731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卡里库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5300640"/>
            <a:ext cx="1676520" cy="457200"/>
          </a:xfrm>
          <a:prstGeom prst="wedgeRectCallout">
            <a:avLst>
              <a:gd name="adj1" fmla="val -58523"/>
              <a:gd name="adj2" fmla="val -15069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麦哲伦海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0" y="4741920"/>
            <a:ext cx="1236600" cy="21160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971640" y="2997360"/>
            <a:ext cx="6408720" cy="3313080"/>
          </a:xfrm>
          <a:prstGeom prst="wedgeEllipseCallout">
            <a:avLst>
              <a:gd name="adj1" fmla="val -20050"/>
              <a:gd name="adj2" fmla="val -4535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黑体"/>
              </a:rPr>
              <a:t>我是迪亚士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黑体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1487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年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月我从里斯本出发，率探险队沿非洲西岸南航，寻找通往东方的航路，首次到达非洲南端，也就是好望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476360" cy="1828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124000" y="4869000"/>
            <a:ext cx="4896000" cy="1728720"/>
          </a:xfrm>
          <a:prstGeom prst="cloudCallout">
            <a:avLst>
              <a:gd name="adj1" fmla="val 71370"/>
              <a:gd name="adj2" fmla="val -3273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是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伽马，我绕过好望角，终于到达了印度。哈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~~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067280" y="981000"/>
            <a:ext cx="1296720" cy="720720"/>
          </a:xfrm>
          <a:prstGeom prst="wedgeRectCallout">
            <a:avLst>
              <a:gd name="adj1" fmla="val -40453"/>
              <a:gd name="adj2" fmla="val 9559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葡萄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西班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3935520" y="1628640"/>
            <a:ext cx="504720" cy="392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3924360" y="1557360"/>
            <a:ext cx="504720" cy="3920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7"/>
          <a:stretch/>
        </p:blipFill>
        <p:spPr>
          <a:xfrm>
            <a:off x="3990960" y="1628640"/>
            <a:ext cx="504720" cy="392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8"/>
          <a:stretch/>
        </p:blipFill>
        <p:spPr>
          <a:xfrm>
            <a:off x="3838680" y="1757520"/>
            <a:ext cx="504720" cy="392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9"/>
          <a:stretch/>
        </p:blipFill>
        <p:spPr>
          <a:xfrm>
            <a:off x="8686800" y="3898800"/>
            <a:ext cx="504720" cy="3920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0"/>
          <a:stretch/>
        </p:blipFill>
        <p:spPr>
          <a:xfrm>
            <a:off x="7472520" y="0"/>
            <a:ext cx="1671480" cy="1989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258920" y="0"/>
            <a:ext cx="5832360" cy="3789360"/>
          </a:xfrm>
          <a:prstGeom prst="wedgeEllipseCallout">
            <a:avLst>
              <a:gd name="adj1" fmla="val 62657"/>
              <a:gd name="adj2" fmla="val -307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是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麦哲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151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52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西班牙王室支持我率领船队，穿越大西洋，绕过美洲南端的海峡，横渡太平洋和印度洋，最后我的船队回到欧洲，完成了环球航行。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证明地球是圆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16000" y="1197000"/>
            <a:ext cx="5400720" cy="3141720"/>
          </a:xfrm>
          <a:prstGeom prst="wedgeRoundRectCallout">
            <a:avLst>
              <a:gd name="adj1" fmla="val -46560"/>
              <a:gd name="adj2" fmla="val -6718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是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哥伦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出生于意大利热那亚，自幼喜欢航海，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49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我的船队横渡大西洋，最终到达今天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美洲大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我以为我到的地方是亚洲的印度，所以我把当地居民称为印第安人，意思是印度居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瓦斯科·达·伽马"/>
          <p:cNvPicPr/>
          <p:nvPr/>
        </p:nvPicPr>
        <p:blipFill>
          <a:blip r:embed="rId11"/>
          <a:stretch/>
        </p:blipFill>
        <p:spPr>
          <a:xfrm>
            <a:off x="7791480" y="4762440"/>
            <a:ext cx="1352520" cy="20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3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3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3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5.89595E-006 C -0.00504 0.00995 -0.01007 0.02012 -0.01424 0.0296 C -0.0184 0.03908 -0.02344 0.04648 -0.02535 0.05712 C -0.02726 0.06775 -0.02535 0.07885 -0.02535 0.09319 C -0.02535 0.10752 -0.02691 0.13111 -0.02535 0.14382 C -0.02379 0.15654 -0.0224 0.1651 -0.0158 0.16926 C -0.0092 0.17342 0.00694 0.16602 0.01441 0.16926 C 0.02187 0.17249 0.02396 0.18082 0.02865 0.18822 C 0.03333 0.19562 0.03941 0.20648 0.04288 0.21365 C 0.04635 0.22082 0.04774 0.22174 0.04931 0.23053 C 0.05087 0.23932 0.04983 0.25434 0.05243 0.26637 C 0.05503 0.27839 0.05955 0.29157 0.0651 0.30244 C 0.07066 0.3133 0.07969 0.32741 0.08576 0.33203 C 0.09184 0.33666 0.09896 0.33018 0.10156 0.32995 E">
                                      <p:cBhvr>
                                        <p:cTn id="212" dur="3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3" dur="1" fill="hold">
                                    <p:stCondLst>
                                      <p:cond evt="end">
                                        <p:tn val="211"/>
                                      </p:cond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0.03264 C 0.00365 0.0338 -8.33332999999967E-007 0.04167 -0.00364 0.0456 C -0.00729 0.04954 -0.01424 0.05371 -0.01962 0.05579 C -0.025 0.05787 -0.03021 0.05648 -0.03559 0.05857 C -0.04097 0.06065 -0.04271 0.06551 -0.05156 0.06783 C -0.06042 0.07014 -0.0783 0.0713 -0.08906 0.07246 C -0.09983 0.07361 -0.10868 0.07361 -0.11614 0.07431 C -0.12361 0.075 -0.13038 0.07454 -0.13351 0.07616 C -0.13663 0.07778 -0.13299 0.08009 -0.13489 0.08357 C -0.1368 0.08704 -0.14583 0.09375 -0.14531 0.09653 C -0.14479 0.09931 -0.13611 0.1 -0.13142 0.10023 C -0.12674 0.10046 -0.12014 0.10093 -0.11684 0.09838 C -0.11354 0.09583 -0.11406 0.09051 -0.11198 0.08542 C -0.10989 0.08033 -0.10712 0.07199 -0.10434 0.0669 C -0.10156 0.06181 -0.1033 0.0588 -0.09531 0.05486 C -0.08733 0.05093 -0.06736 0.0463 -0.05642 0.04375 C -0.04549 0.04121 -0.03646 0.04005 -0.02934 0.03912 C -0.02222 0.0382 -0.0191 0.03935 -0.01406 0.0382 C -0.00903 0.03704 0.00017 0.03148 0.00191 0.03264 Z">
                                      <p:cBhvr>
                                        <p:cTn id="255" dur="5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500"/>
                            </p:stCondLst>
                            <p:childTnLst>
                              <p:par>
                                <p:cTn id="26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59 0.03195 C -0.0151 0.03449 -0.01961 0.03704 -0.02309 0.04121 C -0.02656 0.04537 -0.02899 0.05185 -0.03142 0.05695 C -0.03385 0.06204 -0.03472 0.06783 -0.03767 0.07176 C -0.04062 0.0757 -0.04583 0.0757 -0.04948 0.08009 C -0.05312 0.08449 -0.05677 0.09097 -0.0592 0.09769 C -0.06163 0.1044 -0.06371 0.11459 -0.06406 0.12084 C -0.06441 0.12709 -0.06354 0.13148 -0.06128 0.13565 C -0.05902 0.13982 -0.05347 0.14213 -0.05086 0.14584 C -0.04826 0.14954 -0.04739 0.15185 -0.046 0.15787 C -0.04461 0.16389 -0.04236 0.17477 -0.04253 0.18195 C -0.0427 0.18912 -0.04514 0.19514 -0.0467 0.20046 C -0.04826 0.20579 -0.05243 0.20486 -0.05156 0.21435 C -0.05069 0.22384 -0.04444 0.24584 -0.04184 0.25787 C -0.03923 0.26991 -0.03836 0.28125 -0.03559 0.28658 C -0.03281 0.2919 -0.02882 0.28681 -0.02517 0.28935 C -0.02152 0.2919 -0.01736 0.29931 -0.01336 0.30232 C -0.00937 0.30533 -0.00451 0.3044 -0.00156 0.30787 C 0.00139 0.31134 0.00243 0.31968 0.00469 0.32361 C 0.00695 0.32755 0.01111 0.32847 0.01233 0.33195 C 0.01355 0.33542 0.0073 0.33935 0.01233 0.34398 C 0.01736 0.34861 0.03247 0.35718 0.04289 0.35972 C 0.0533 0.36227 0.06615 0.35903 0.07483 0.3588 C 0.08351 0.35857 0.09046 0.36227 0.09497 0.35787 C 0.09948 0.35347 0.09983 0.34236 0.10191 0.33287 C 0.104 0.32338 0.10313 0.30903 0.10747 0.30139 C 0.11181 0.29375 0.12414 0.29398 0.12761 0.2875 C 0.13108 0.28102 0.12726 0.27315 0.1283 0.2625 C 0.12934 0.25185 0.13056 0.23634 0.13386 0.22361 C 0.13716 0.21088 0.1441 0.19653 0.14775 0.18658 C 0.15139 0.17662 0.14983 0.16875 0.15608 0.16343 C 0.16233 0.1581 0.17778 0.15834 0.18525 0.15509 C 0.19271 0.15185 0.19983 0.14653 0.20122 0.14398 C 0.20261 0.14144 0.19757 0.14005 0.19358 0.13935 C 0.18959 0.13866 0.18125 0.13959 0.17761 0.14028 C 0.17396 0.14097 0.17361 0.13218 0.17205 0.14398 C 0.17049 0.15579 0.16945 0.18357 0.16858 0.21158 E">
                                      <p:cBhvr>
                                        <p:cTn id="287" dur="7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4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7500"/>
                            </p:stCondLst>
                            <p:childTnLst>
                              <p:par>
                                <p:cTn id="29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8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58 0.03194 C -0.0111 0.03704 -0.01145 0.04213 -0.01197 0.04676 C -0.01249 0.05139 -0.0111 0.0544 -0.01406 0.05972 C -0.01701 0.06505 -0.02395 0.07268 -0.02933 0.07917 C -0.03472 0.08565 -0.04183 0.09375 -0.046 0.09861 C -0.05017 0.10347 -0.05173 0.10185 -0.05433 0.1088 C -0.05694 0.11574 -0.05972 0.1287 -0.06197 0.14028 C -0.06423 0.15185 -0.06527 0.16921 -0.06753 0.17824 C -0.06978 0.18727 -0.07447 0.1838 -0.07517 0.19491 C -0.07586 0.20602 -0.07169 0.23171 -0.07169 0.24491 C -0.07169 0.2581 -0.07308 0.2669 -0.07517 0.27361 C -0.07725 0.28032 -0.08263 0.27361 -0.08419 0.28472 C -0.08576 0.29583 -0.08124 0.32662 -0.08489 0.34028 C -0.08853 0.35393 -0.10103 0.35486 -0.10642 0.36713 C -0.1118 0.3794 -0.11388 0.40417 -0.11683 0.41343 C -0.11978 0.42268 -0.12326 0.41713 -0.12447 0.42268 C -0.12569 0.42824 -0.12169 0.44236 -0.12447 0.44676 C -0.12725 0.45116 -0.13524 0.44606 -0.14114 0.44861 C -0.14704 0.45116 -0.1526 0.46551 -0.15989 0.46157 C -0.16718 0.45764 -0.17742 0.43426 -0.18489 0.42454 C -0.19235 0.41481 -0.19548 0.40694 -0.20433 0.40324 C -0.21319 0.39954 -0.22916 0.40625 -0.23767 0.40231 C -0.24617 0.39838 -0.24617 0.38588 -0.25572 0.38009 C -0.26527 0.37431 -0.2743 0.36921 -0.29461 0.36713 C -0.31492 0.36505 -0.36058 0.36643 -0.37794 0.36806 C -0.39531 0.36968 -0.39704 0.37338 -0.39878 0.37731 E">
                                      <p:cBhvr>
                                        <p:cTn id="325" dur="5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26" dur="1" fill="hold">
                                    <p:stCondLst>
                                      <p:cond evt="end">
                                        <p:tn val="324"/>
                                      </p:cond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2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9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500"/>
                            </p:stCondLst>
                            <p:childTnLst>
                              <p:par>
                                <p:cTn id="3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7.03704E-006 C -0.00556 0.0037 -0.01112 0.00763 -0.01459 -7.03704E-006 C -0.01806 -0.00765 -0.01754 -0.03311 -0.02084 -0.04584 C -0.02414 -0.05857 -0.02796 -0.06829 -0.03438 -0.0764 C -0.04081 -0.0845 -0.05348 -0.08936 -0.05938 -0.09445 C -0.06529 -0.09954 -0.06129 -0.10348 -0.0698 -0.10695 C -0.07831 -0.11042 -0.10227 -0.1095 -0.11042 -0.11529 C -0.11858 -0.12107 -0.11303 -0.13357 -0.11876 -0.14167 C -0.12449 -0.14978 -0.13456 -0.16274 -0.1448 -0.1639 C -0.15504 -0.16505 -0.17397 -0.15927 -0.18022 -0.14862 C -0.18647 -0.13797 -0.179 -0.11158 -0.1823 -0.10001 C -0.1856 -0.08843 -0.19167 -0.08658 -0.20001 -0.07917 C -0.20834 -0.07177 -0.22032 -0.06181 -0.2323 -0.05556 C -0.24428 -0.04931 -0.26112 -0.04723 -0.27188 -0.04167 C -0.28265 -0.03612 -0.28473 -0.0264 -0.29688 -0.02223 C -0.30904 -0.01806 -0.32796 -0.02015 -0.3448 -0.01667 C -0.36164 -0.0132 -0.38369 -0.00811 -0.39792 -0.0014 C -0.41216 0.00532 -0.41824 0.0199 -0.43022 0.0236 C -0.4422 0.02731 -0.46008 0.03286 -0.4698 0.02083 C -0.47952 0.00879 -0.48508 -0.02848 -0.48855 -0.04862 C -0.49202 -0.06876 -0.48751 -0.09075 -0.49063 -0.10001 C -0.49376 -0.10927 -0.49983 -0.10255 -0.5073 -0.10417 C -0.51477 -0.10579 -0.53161 -0.10742 -0.53542 -0.10973 C -0.53924 -0.11204 -0.52917 -0.10788 -0.53022 -0.11806 C -0.53126 -0.12825 -0.53733 -0.15533 -0.54167 -0.17084 C -0.54602 -0.18635 -0.55452 -0.19792 -0.55626 -0.21112 C -0.55799 -0.22431 -0.55608 -0.23913 -0.55209 -0.25001 C -0.5481 -0.26089 -0.53647 -0.26783 -0.5323 -0.2764 C -0.52813 -0.28496 -0.52796 -0.29538 -0.52709 -0.3014 C -0.52622 -0.30742 -0.52674 -0.30996 -0.52709 -0.31251 E">
                                      <p:cBhvr>
                                        <p:cTn id="335" dur="3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8" dur="1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8500"/>
                            </p:stCondLst>
                            <p:childTnLst>
                              <p:par>
                                <p:cTn id="34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 rot="802800">
            <a:off x="2268000" y="764640"/>
            <a:ext cx="1656000" cy="247680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42560" y="5157360"/>
            <a:ext cx="7777080" cy="136692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仿宋_GB2312"/>
              </a:rPr>
              <a:t>勇于开拓、不断创新、积极进取、</a:t>
            </a:r>
            <a:br>
              <a:rPr sz="3600"/>
            </a:b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仿宋_GB2312"/>
              </a:rPr>
              <a:t>不怕牺牲、克服困难、冒险精神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1280" y="3860280"/>
            <a:ext cx="8964720" cy="792360"/>
          </a:xfrm>
          <a:prstGeom prst="rect">
            <a:avLst/>
          </a:prstGeom>
          <a:solidFill>
            <a:srgbClr val="800000"/>
          </a:solidFill>
          <a:ln w="38160">
            <a:solidFill>
              <a:srgbClr val="cc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你从西方航海家身上学到哪些优秀品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rcRect l="0" t="0" r="0" b="18142"/>
          <a:stretch/>
        </p:blipFill>
        <p:spPr>
          <a:xfrm rot="20353200">
            <a:off x="468360" y="907560"/>
            <a:ext cx="1603440" cy="225108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 rot="21210000">
            <a:off x="4284360" y="836640"/>
            <a:ext cx="1757160" cy="230508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4500720" y="314172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伽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 rot="1058400">
            <a:off x="6516720" y="549000"/>
            <a:ext cx="1752480" cy="24192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6732720" y="306864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麦哲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492360" y="189000"/>
            <a:ext cx="1828800" cy="52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小组合作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689040" y="1130400"/>
          <a:ext cx="7761240" cy="4736880"/>
        </p:xfrm>
        <a:graphic>
          <a:graphicData uri="http://schemas.openxmlformats.org/drawingml/2006/table">
            <a:tbl>
              <a:tblPr/>
              <a:tblGrid>
                <a:gridCol w="1512720"/>
                <a:gridCol w="1727280"/>
                <a:gridCol w="1368360"/>
                <a:gridCol w="3152880"/>
              </a:tblGrid>
              <a:tr h="12906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航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所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国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航行路线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到达地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Text Box 35"/>
          <p:cNvSpPr/>
          <p:nvPr/>
        </p:nvSpPr>
        <p:spPr>
          <a:xfrm>
            <a:off x="2195640" y="3357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487-14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6"/>
          <p:cNvSpPr/>
          <p:nvPr/>
        </p:nvSpPr>
        <p:spPr>
          <a:xfrm>
            <a:off x="5580000" y="3284640"/>
            <a:ext cx="28195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发现好望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7"/>
          <p:cNvSpPr/>
          <p:nvPr/>
        </p:nvSpPr>
        <p:spPr>
          <a:xfrm>
            <a:off x="2484360" y="25653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4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8"/>
          <p:cNvSpPr/>
          <p:nvPr/>
        </p:nvSpPr>
        <p:spPr>
          <a:xfrm>
            <a:off x="5508720" y="234936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发现美洲大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9"/>
          <p:cNvSpPr/>
          <p:nvPr/>
        </p:nvSpPr>
        <p:spPr>
          <a:xfrm>
            <a:off x="2268360" y="42926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497-14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0"/>
          <p:cNvSpPr/>
          <p:nvPr/>
        </p:nvSpPr>
        <p:spPr>
          <a:xfrm>
            <a:off x="5580000" y="4005360"/>
            <a:ext cx="2743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到达印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1"/>
          <p:cNvSpPr/>
          <p:nvPr/>
        </p:nvSpPr>
        <p:spPr>
          <a:xfrm>
            <a:off x="2268360" y="5157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519-15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2"/>
          <p:cNvSpPr/>
          <p:nvPr/>
        </p:nvSpPr>
        <p:spPr>
          <a:xfrm>
            <a:off x="5651640" y="4869000"/>
            <a:ext cx="213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环球航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3"/>
          <p:cNvSpPr/>
          <p:nvPr/>
        </p:nvSpPr>
        <p:spPr>
          <a:xfrm>
            <a:off x="755640" y="3357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迪亚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4"/>
          <p:cNvSpPr/>
          <p:nvPr/>
        </p:nvSpPr>
        <p:spPr>
          <a:xfrm>
            <a:off x="755640" y="2565360"/>
            <a:ext cx="17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哥伦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5"/>
          <p:cNvSpPr/>
          <p:nvPr/>
        </p:nvSpPr>
        <p:spPr>
          <a:xfrm>
            <a:off x="684360" y="429264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达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伽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6"/>
          <p:cNvSpPr/>
          <p:nvPr/>
        </p:nvSpPr>
        <p:spPr>
          <a:xfrm>
            <a:off x="826920" y="5157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麦哲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7"/>
          <p:cNvSpPr/>
          <p:nvPr/>
        </p:nvSpPr>
        <p:spPr>
          <a:xfrm>
            <a:off x="3995640" y="3429000"/>
            <a:ext cx="15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葡萄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8"/>
          <p:cNvSpPr/>
          <p:nvPr/>
        </p:nvSpPr>
        <p:spPr>
          <a:xfrm>
            <a:off x="4067280" y="2637000"/>
            <a:ext cx="15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西班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9"/>
          <p:cNvSpPr/>
          <p:nvPr/>
        </p:nvSpPr>
        <p:spPr>
          <a:xfrm>
            <a:off x="4067280" y="4221000"/>
            <a:ext cx="15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葡萄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0"/>
          <p:cNvSpPr/>
          <p:nvPr/>
        </p:nvSpPr>
        <p:spPr>
          <a:xfrm>
            <a:off x="4067280" y="5157720"/>
            <a:ext cx="15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西班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66920" y="104760"/>
            <a:ext cx="3960720" cy="642600"/>
          </a:xfrm>
          <a:prstGeom prst="rect">
            <a:avLst/>
          </a:prstGeom>
          <a:solidFill>
            <a:srgbClr val="00ccff"/>
          </a:solidFill>
          <a:ln w="19080">
            <a:solidFill>
              <a:srgbClr val="ff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0e14"/>
                </a:solidFill>
                <a:latin typeface="华文中宋"/>
                <a:ea typeface="华文中宋"/>
              </a:rPr>
              <a:t>新航路开辟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3"/>
          <p:cNvGrpSpPr/>
          <p:nvPr/>
        </p:nvGrpSpPr>
        <p:grpSpPr>
          <a:xfrm>
            <a:off x="8101080" y="5300640"/>
            <a:ext cx="1042920" cy="1557360"/>
            <a:chOff x="8101080" y="5300640"/>
            <a:chExt cx="1042920" cy="1557360"/>
          </a:xfrm>
        </p:grpSpPr>
        <p:pic>
          <p:nvPicPr>
            <p:cNvPr id="177" name="Object 14" descr=""/>
            <p:cNvPicPr/>
            <p:nvPr/>
          </p:nvPicPr>
          <p:blipFill>
            <a:blip r:embed="rId1"/>
            <a:stretch/>
          </p:blipFill>
          <p:spPr>
            <a:xfrm>
              <a:off x="8101080" y="5300640"/>
              <a:ext cx="986760" cy="155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Object 15" descr=""/>
            <p:cNvPicPr/>
            <p:nvPr/>
          </p:nvPicPr>
          <p:blipFill>
            <a:blip r:embed="rId2"/>
            <a:stretch/>
          </p:blipFill>
          <p:spPr>
            <a:xfrm>
              <a:off x="8571960" y="5478120"/>
              <a:ext cx="572040" cy="130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"/>
          <p:cNvSpPr/>
          <p:nvPr/>
        </p:nvSpPr>
        <p:spPr>
          <a:xfrm>
            <a:off x="7451640" y="0"/>
            <a:ext cx="27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本课重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1268280"/>
            <a:ext cx="96123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15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世纪的欧洲人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为什么要开辟通往东方的新航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95280" y="1341360"/>
            <a:ext cx="8387640" cy="2664000"/>
            <a:chOff x="395280" y="1341360"/>
            <a:chExt cx="8387640" cy="2664000"/>
          </a:xfrm>
        </p:grpSpPr>
        <p:sp>
          <p:nvSpPr>
            <p:cNvPr id="182" name=""/>
            <p:cNvSpPr/>
            <p:nvPr/>
          </p:nvSpPr>
          <p:spPr>
            <a:xfrm>
              <a:off x="395280" y="1341360"/>
              <a:ext cx="8150760" cy="26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4880" y="1485720"/>
              <a:ext cx="8348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250920" y="2276640"/>
            <a:ext cx="864216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材料一：“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黄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一个令人惊叹的东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谁有了它，谁就能支配他所想要的一切。有了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黄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要把灵魂送到天堂，也是可以做到的。”                                                                ——哥伦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0920" y="3789360"/>
            <a:ext cx="87138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材料二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东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金瓦盖顶，金砖铺地，门窗都是黄金装饰，连河道里都有滚动的矿石，东方简直是一个灿烂辉煌的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黄金世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冒险家的乐园。”                                         ——马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波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5300640"/>
            <a:ext cx="8642160" cy="9471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材料三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世纪以后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西欧产生资本主义萌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对铸造货币的黄金需求量日益增大。”“新兴的资产阶级要用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黄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来扩充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资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——恩格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0"/>
            <a:ext cx="201600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论从史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9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3598920" cy="233712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0" y="3978360"/>
            <a:ext cx="3924360" cy="2879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5938200" y="1197000"/>
            <a:ext cx="91188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造船技术的进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003640" y="3921120"/>
            <a:ext cx="3312720" cy="2878560"/>
            <a:chOff x="5003640" y="3921120"/>
            <a:chExt cx="3312720" cy="2878560"/>
          </a:xfrm>
        </p:grpSpPr>
        <p:pic>
          <p:nvPicPr>
            <p:cNvPr id="192" name="" descr=""/>
            <p:cNvPicPr/>
            <p:nvPr/>
          </p:nvPicPr>
          <p:blipFill>
            <a:blip r:embed="rId4"/>
            <a:stretch/>
          </p:blipFill>
          <p:spPr>
            <a:xfrm>
              <a:off x="5003640" y="3921120"/>
              <a:ext cx="3309480" cy="243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028480" y="6339960"/>
              <a:ext cx="3287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开始相信“地圆说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873120" y="1197000"/>
            <a:ext cx="9118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地理知识的进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50920" y="765000"/>
            <a:ext cx="11023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航海技术的进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5"/>
          <a:srcRect l="2130" t="1958" r="1997" b="1958"/>
          <a:stretch/>
        </p:blipFill>
        <p:spPr>
          <a:xfrm>
            <a:off x="5364000" y="3645000"/>
            <a:ext cx="2552760" cy="27208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5292720" y="3573360"/>
            <a:ext cx="2637000" cy="2441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0" y="189000"/>
            <a:ext cx="810108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欧洲人开辟新航路还需要具备哪些条件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3429000"/>
            <a:ext cx="23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罗盘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16360" y="342900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指向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51280" y="692280"/>
            <a:ext cx="2592360" cy="15922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179280" y="765000"/>
            <a:ext cx="1425600" cy="15573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1835280" y="765000"/>
            <a:ext cx="1871640" cy="1548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6"/>
          <a:stretch/>
        </p:blipFill>
        <p:spPr>
          <a:xfrm>
            <a:off x="6516720" y="749160"/>
            <a:ext cx="2411280" cy="1600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7164360" y="198900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  <a:ea typeface="黑体"/>
              </a:rPr>
              <a:t>甘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68360" y="177336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  <a:ea typeface="黑体"/>
              </a:rPr>
              <a:t>马铃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59280" y="177336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  <a:ea typeface="黑体"/>
              </a:rPr>
              <a:t>烟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00000" y="184464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  <a:ea typeface="黑体"/>
              </a:rPr>
              <a:t>玉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2492280"/>
            <a:ext cx="2449440" cy="18367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484360" y="2492280"/>
            <a:ext cx="2664000" cy="1859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580000" y="2492280"/>
            <a:ext cx="1244520" cy="18734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164360" y="2492280"/>
            <a:ext cx="1405080" cy="18734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547640" y="378936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黑体"/>
              </a:rPr>
              <a:t>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308720" y="378936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黑体"/>
              </a:rPr>
              <a:t>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24360" y="378936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黑体"/>
              </a:rPr>
              <a:t>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80000" y="37893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黑体"/>
              </a:rPr>
              <a:t>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9280" y="115920"/>
            <a:ext cx="42483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新航路开辟的影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0" y="4437000"/>
            <a:ext cx="1152360" cy="1440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476360" y="4508640"/>
            <a:ext cx="1873440" cy="12538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9"/>
          <a:stretch/>
        </p:blipFill>
        <p:spPr>
          <a:xfrm>
            <a:off x="3492360" y="4508640"/>
            <a:ext cx="1873440" cy="12445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0"/>
          <a:stretch/>
        </p:blipFill>
        <p:spPr>
          <a:xfrm>
            <a:off x="5651640" y="4508640"/>
            <a:ext cx="1000080" cy="13334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1"/>
          <a:stretch/>
        </p:blipFill>
        <p:spPr>
          <a:xfrm>
            <a:off x="7093080" y="4437000"/>
            <a:ext cx="2050920" cy="15382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187280" y="5661000"/>
            <a:ext cx="7020000" cy="10688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影响：使世界连成一个整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促进了欧洲资本主义的发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40360" y="115920"/>
            <a:ext cx="43923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世界物种、人种大交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900000" y="1773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但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22766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达•芬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95640" y="1628640"/>
            <a:ext cx="647640" cy="2043720"/>
          </a:xfrm>
          <a:prstGeom prst="rect">
            <a:avLst/>
          </a:prstGeom>
          <a:noFill/>
          <a:ln w="475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人文主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2" action="ppaction://hlinksldjump"/>
          </p:cNvPr>
          <p:cNvSpPr/>
          <p:nvPr/>
        </p:nvSpPr>
        <p:spPr>
          <a:xfrm>
            <a:off x="5292720" y="1557360"/>
            <a:ext cx="719280" cy="1068840"/>
          </a:xfrm>
          <a:prstGeom prst="rect">
            <a:avLst/>
          </a:prstGeom>
          <a:solidFill>
            <a:srgbClr val="0066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文艺复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440760" y="1773360"/>
            <a:ext cx="1095120" cy="1728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资产阶级的思想解放运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-252360" y="530064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哥伦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87280" y="4941720"/>
            <a:ext cx="31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达•伽马（达到印度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-181080" y="5734080"/>
            <a:ext cx="38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麦哲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71640" y="4508640"/>
            <a:ext cx="33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迪亚士（发现好望角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211640" y="4581360"/>
            <a:ext cx="237960" cy="1662120"/>
          </a:xfrm>
          <a:custGeom>
            <a:avLst/>
            <a:gdLst>
              <a:gd name="textAreaLeft" fmla="*/ 0 w 237960"/>
              <a:gd name="textAreaRight" fmla="*/ 86040 w 237960"/>
              <a:gd name="textAreaTop" fmla="*/ 43200 h 1662120"/>
              <a:gd name="textAreaBottom" fmla="*/ 1618920 h 16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46360" y="4292640"/>
            <a:ext cx="7290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世纪末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世纪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64000" y="4076640"/>
            <a:ext cx="719280" cy="1556280"/>
          </a:xfrm>
          <a:prstGeom prst="rect">
            <a:avLst/>
          </a:prstGeom>
          <a:solidFill>
            <a:srgbClr val="0066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开辟新航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00720" y="5229360"/>
            <a:ext cx="469800" cy="380880"/>
          </a:xfrm>
          <a:prstGeom prst="rightArrow">
            <a:avLst>
              <a:gd name="adj1" fmla="val 50000"/>
              <a:gd name="adj2" fmla="val 308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512040" y="4653000"/>
            <a:ext cx="1095120" cy="1317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促进资本原始积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35280" y="1916280"/>
            <a:ext cx="166680" cy="1439640"/>
          </a:xfrm>
          <a:custGeom>
            <a:avLst/>
            <a:gdLst>
              <a:gd name="textAreaLeft" fmla="*/ 0 w 166680"/>
              <a:gd name="textAreaRight" fmla="*/ 60120 w 1666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56360" y="2492280"/>
            <a:ext cx="469800" cy="381240"/>
          </a:xfrm>
          <a:prstGeom prst="rightArrow">
            <a:avLst>
              <a:gd name="adj1" fmla="val 50000"/>
              <a:gd name="adj2" fmla="val 308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667640" y="2060640"/>
            <a:ext cx="299880" cy="3889440"/>
          </a:xfrm>
          <a:custGeom>
            <a:avLst/>
            <a:gdLst>
              <a:gd name="textAreaLeft" fmla="*/ 0 w 299880"/>
              <a:gd name="textAreaRight" fmla="*/ 108360 w 299880"/>
              <a:gd name="textAreaTop" fmla="*/ 101160 h 3889440"/>
              <a:gd name="textAreaBottom" fmla="*/ 3788280 h 388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698240" y="1844640"/>
            <a:ext cx="1155240" cy="4738680"/>
          </a:xfrm>
          <a:prstGeom prst="rect">
            <a:avLst/>
          </a:prstGeom>
          <a:solidFill>
            <a:srgbClr val="ff33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促进西欧资本主义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00000" y="2852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莎士比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5" descr="本课小结"/>
          <p:cNvPicPr/>
          <p:nvPr/>
        </p:nvPicPr>
        <p:blipFill>
          <a:blip r:embed="rId3"/>
          <a:stretch/>
        </p:blipFill>
        <p:spPr>
          <a:xfrm>
            <a:off x="2195640" y="404640"/>
            <a:ext cx="3960720" cy="9414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446360" y="1557360"/>
            <a:ext cx="7290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世纪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-—16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世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697120" y="184464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《神曲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664000" y="234936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《蒙娜丽莎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664000" y="292428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《哈姆雷特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394000" y="53737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（发现美洲大陆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465280" y="58053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（完成环球航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-304200" y="1628640"/>
            <a:ext cx="1155240" cy="4883400"/>
          </a:xfrm>
          <a:prstGeom prst="rect">
            <a:avLst/>
          </a:prstGeom>
          <a:solidFill>
            <a:srgbClr val="ff33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西欧产生资本主义萌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659280" y="1125360"/>
            <a:ext cx="2721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024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1197000"/>
            <a:ext cx="799308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387"/>
              </a:lnSpc>
              <a:tabLst>
                <a:tab algn="l" pos="0"/>
                <a:tab algn="l" pos="3156120"/>
                <a:tab algn="l" pos="316872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文艺复兴运动宣扬的核心思想是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3156120"/>
                <a:tab algn="l" pos="316872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11"/>
              </a:lnSpc>
              <a:tabLst>
                <a:tab algn="l" pos="0"/>
                <a:tab algn="l" pos="3156120"/>
                <a:tab algn="l" pos="316872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民主共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"/>
              </a:lnSpc>
              <a:tabLst>
                <a:tab algn="l" pos="0"/>
                <a:tab algn="l" pos="3156120"/>
                <a:tab algn="l" pos="316872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人文主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3156120"/>
                <a:tab algn="l" pos="316872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25"/>
              </a:lnSpc>
              <a:tabLst>
                <a:tab algn="l" pos="0"/>
                <a:tab algn="l" pos="3156120"/>
                <a:tab algn="l" pos="316872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重商主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"/>
              </a:lnSpc>
              <a:tabLst>
                <a:tab algn="l" pos="0"/>
                <a:tab algn="l" pos="3156120"/>
                <a:tab algn="l" pos="316872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文艺复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9640" y="2924280"/>
            <a:ext cx="7920000" cy="12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他被誉为旧时代的最后一位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，同时又是新时代的最初一位诗人。他是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但丁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芬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莎士比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哥伦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19280" y="3429000"/>
            <a:ext cx="29484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024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450080" y="4941720"/>
            <a:ext cx="32162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87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下列作品属于莎士比亚的是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941080" y="4941720"/>
            <a:ext cx="9360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024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80360" y="5013360"/>
            <a:ext cx="2566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024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62160" y="5445000"/>
            <a:ext cx="17125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87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神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25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蒙娜丽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05080" y="5300640"/>
            <a:ext cx="23724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87"/>
              </a:lnSpc>
              <a:tabLst>
                <a:tab algn="l" pos="0"/>
                <a:tab algn="l" pos="12852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最后的晚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12852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25"/>
              </a:lnSpc>
              <a:tabLst>
                <a:tab algn="l" pos="0"/>
                <a:tab algn="l" pos="12852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罗密欧和朱丽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7" descr="课堂训练"/>
          <p:cNvPicPr/>
          <p:nvPr/>
        </p:nvPicPr>
        <p:blipFill>
          <a:blip r:embed="rId2"/>
          <a:stretch/>
        </p:blipFill>
        <p:spPr>
          <a:xfrm>
            <a:off x="2195640" y="115920"/>
            <a:ext cx="3654360" cy="8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7" descr="课堂训练"/>
          <p:cNvPicPr/>
          <p:nvPr/>
        </p:nvPicPr>
        <p:blipFill>
          <a:blip r:embed="rId2"/>
          <a:stretch/>
        </p:blipFill>
        <p:spPr>
          <a:xfrm>
            <a:off x="2124000" y="549360"/>
            <a:ext cx="3654360" cy="834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6805440" y="15573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43280" y="4581360"/>
            <a:ext cx="35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84360" y="1628640"/>
            <a:ext cx="770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开辟新航路必须具备的技术条件有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 ①地圆学说的确立 ②指南针的应用 ③较准确地绘制地图的技术 ④大型海船的建造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①②③     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①③④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①②④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①②③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在世界开始连成一个整体的过程中起了最重要作用的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资本主义革命；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新航路的开辟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殖民侵略；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文艺复兴运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1278720"/>
            <a:ext cx="9144000" cy="4298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材料解析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材料一：文艺复兴时期，人们对文学、艺术等方      面的巨大成就极为欢欣。他们认为这是一次精神的新生，而不是像花开花落那样，只是周而复始的重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材料二：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18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世纪的学者费内隆写道：在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16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世纪，人们将“文艺复兴”一词只理解为恢复古代传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就材料一所说的文学、艺术方面的成就各举一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你认为材料二的观点正确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2060640"/>
            <a:ext cx="8064360" cy="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68360" y="2781360"/>
            <a:ext cx="4038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26920" y="836640"/>
            <a:ext cx="7274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第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10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课 资本主义时代的曙光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0" name=""/>
          <p:cNvSpPr/>
          <p:nvPr/>
        </p:nvSpPr>
        <p:spPr>
          <a:xfrm>
            <a:off x="6877080" y="549360"/>
            <a:ext cx="1366920" cy="1584360"/>
          </a:xfrm>
          <a:prstGeom prst="ellipse">
            <a:avLst/>
          </a:prstGeom>
          <a:noFill/>
          <a:ln w="66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258920" y="2492280"/>
            <a:ext cx="6553080" cy="389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95280" y="3789360"/>
            <a:ext cx="7632720" cy="1655640"/>
          </a:xfrm>
          <a:prstGeom prst="foldedCorner">
            <a:avLst>
              <a:gd name="adj" fmla="val 29166"/>
            </a:avLst>
          </a:prstGeom>
          <a:solidFill>
            <a:srgbClr val="ccffff"/>
          </a:solidFill>
          <a:ln w="38160">
            <a:solidFill>
              <a:srgbClr val="333399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5800" y="677880"/>
            <a:ext cx="914400" cy="846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752480" y="1828800"/>
            <a:ext cx="4475160" cy="1168560"/>
          </a:xfrm>
          <a:prstGeom prst="foldedCorner">
            <a:avLst>
              <a:gd name="adj" fmla="val 29166"/>
            </a:avLst>
          </a:prstGeom>
          <a:solidFill>
            <a:srgbClr val="ccffff"/>
          </a:solidFill>
          <a:ln w="38160">
            <a:solidFill>
              <a:srgbClr val="333399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如何评价哥伦布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7924680" y="5638680"/>
            <a:ext cx="914400" cy="7732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2411280" y="476280"/>
            <a:ext cx="4608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课后拓展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2" name=""/>
          <p:cNvSpPr/>
          <p:nvPr/>
        </p:nvSpPr>
        <p:spPr>
          <a:xfrm>
            <a:off x="611280" y="3860640"/>
            <a:ext cx="698508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比较哥伦布等人的航海与中国郑和的远航，有什么不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395280" y="1773360"/>
            <a:ext cx="8244000" cy="947160"/>
          </a:xfrm>
          <a:prstGeom prst="rect">
            <a:avLst/>
          </a:prstGeom>
          <a:noFill/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印第安人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哥伦布把欧洲强盗带到了美洲，破坏我们的文化，掠夺我们的财富，是一个魔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95280" y="4149720"/>
            <a:ext cx="8569440" cy="94716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欧洲人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：哥伦布发现了新大陆，把欧洲文明传到美洲，把落后的美洲带入文明时代，是一个有功之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图片19"/>
          <p:cNvPicPr/>
          <p:nvPr/>
        </p:nvPicPr>
        <p:blipFill>
          <a:blip r:embed="rId2"/>
          <a:stretch/>
        </p:blipFill>
        <p:spPr>
          <a:xfrm>
            <a:off x="395280" y="6075360"/>
            <a:ext cx="7772400" cy="7826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3203640" y="333360"/>
            <a:ext cx="352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如何评价哥伦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115920"/>
            <a:ext cx="3780000" cy="717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问题探究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112536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积极：——客观进步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哥伦布发现美洲新大陆，有利于美洲的开发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次把欧亚大陆和美洲联系在一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加速欧洲资本的原始积累，促进欧洲资本主义的发展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消极：——非正义行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美洲实行残酷的殖民统治和掠夺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印弟安人带来沉重的灾难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 rot="283200">
            <a:off x="3850920" y="0"/>
            <a:ext cx="352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如何评价哥伦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115920"/>
            <a:ext cx="3419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问题探究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4" descr="图片19"/>
          <p:cNvPicPr/>
          <p:nvPr/>
        </p:nvPicPr>
        <p:blipFill>
          <a:blip r:embed="rId2"/>
          <a:stretch/>
        </p:blipFill>
        <p:spPr>
          <a:xfrm>
            <a:off x="395280" y="6075360"/>
            <a:ext cx="7772400" cy="7826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1" descr="图片1"/>
          <p:cNvPicPr/>
          <p:nvPr/>
        </p:nvPicPr>
        <p:blipFill>
          <a:blip r:embed="rId3"/>
          <a:stretch/>
        </p:blipFill>
        <p:spPr>
          <a:xfrm>
            <a:off x="7800840" y="5373720"/>
            <a:ext cx="13431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1916280"/>
            <a:ext cx="8459640" cy="28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【学习目标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掌握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文艺复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期但丁、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芬奇、莎士比亚等代表人物及主要成就，理解人文主义和文艺复兴的本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掌握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开辟新航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过程，了解新航路开辟的影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79280" y="189000"/>
            <a:ext cx="1225800" cy="8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导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476280"/>
            <a:ext cx="6409080" cy="70344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文艺复兴——人被发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844640"/>
            <a:ext cx="842508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文艺复兴发生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—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世纪，最早兴起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是因为这里最早产生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萌芽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世纪扩展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___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指导思想是以人为中心的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什么是文艺复兴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欧洲资产阶级反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___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打着复兴古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化的旗号，发起一场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阶级思想解放运动。人们把这场运动称为文艺复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代表人物及成就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36720" y="1773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220500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意大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0360" y="22050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资本主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35280" y="263700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欧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87280" y="3068640"/>
            <a:ext cx="19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人文主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80000" y="429264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封建教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40720" y="436572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希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4797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罗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48360" y="4797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资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4720" y="1773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859280" y="1025640"/>
            <a:ext cx="4019760" cy="5832360"/>
          </a:xfrm>
          <a:prstGeom prst="rect">
            <a:avLst/>
          </a:prstGeom>
          <a:ln w="15840">
            <a:solidFill>
              <a:srgbClr val="ff6600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50920" y="1025640"/>
            <a:ext cx="3879720" cy="5832360"/>
          </a:xfrm>
          <a:prstGeom prst="rect">
            <a:avLst/>
          </a:prstGeom>
          <a:ln w="15840">
            <a:solidFill>
              <a:srgbClr val="ff66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468360" y="33336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文艺复兴时期作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19640" y="333360"/>
            <a:ext cx="30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中世纪时期作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181440" y="-360"/>
            <a:ext cx="961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对比圣母像，你更喜欢哪个时期，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067280" y="2190600"/>
            <a:ext cx="901440" cy="233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对</a:t>
            </a:r>
            <a:endParaRPr b="1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比</a:t>
            </a:r>
            <a:endParaRPr b="1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32682" t="10523" r="28684" b="68435"/>
          <a:stretch/>
        </p:blipFill>
        <p:spPr>
          <a:xfrm>
            <a:off x="5038560" y="1469880"/>
            <a:ext cx="4105440" cy="3784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rcRect l="30646" t="8334" r="44426" b="74973"/>
          <a:stretch/>
        </p:blipFill>
        <p:spPr>
          <a:xfrm>
            <a:off x="0" y="1542960"/>
            <a:ext cx="3995640" cy="37213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26920" y="530064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文艺复兴时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32720" y="52862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中世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98000" y="5949360"/>
            <a:ext cx="364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文艺复兴时期的圣母像体现了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人性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的色彩。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0" y="765000"/>
            <a:ext cx="9144000" cy="4977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195640" y="0"/>
            <a:ext cx="4876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《最后的晚餐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0" y="-243000"/>
            <a:ext cx="9144000" cy="6336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187280" y="6093000"/>
            <a:ext cx="700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文艺复兴是资产阶级的思想文化运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16720" y="4076640"/>
            <a:ext cx="180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164360" y="3213000"/>
            <a:ext cx="1657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317080" y="3573360"/>
            <a:ext cx="57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227640" y="3645000"/>
            <a:ext cx="1657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68360" y="404640"/>
            <a:ext cx="8351640" cy="703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新航路开辟——世界被发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 rot="802800">
            <a:off x="6876720" y="1557360"/>
            <a:ext cx="1558800" cy="233208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3"/>
          <a:srcRect l="0" t="0" r="0" b="18142"/>
          <a:stretch/>
        </p:blipFill>
        <p:spPr>
          <a:xfrm rot="20353200">
            <a:off x="4500720" y="1915920"/>
            <a:ext cx="1603080" cy="225108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 rot="21210000">
            <a:off x="4859280" y="4437000"/>
            <a:ext cx="1538280" cy="201780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 rot="1058400">
            <a:off x="6948360" y="4365360"/>
            <a:ext cx="1649520" cy="22762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971640" y="2133720"/>
            <a:ext cx="236052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08:16:32Z</dcterms:created>
  <dc:creator>HSZX</dc:creator>
  <dc:description/>
  <dc:language>en-US</dc:language>
  <cp:lastModifiedBy>361023</cp:lastModifiedBy>
  <dcterms:modified xsi:type="dcterms:W3CDTF">2012-10-23T00:37:04Z</dcterms:modified>
  <cp:revision>103</cp:revision>
  <dc:subject/>
  <dc:title>第四单元 步入近代</dc:title>
</cp:coreProperties>
</file>